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3.png" ContentType="image/png"/>
  <Override PartName="/ppt/media/image6.jpeg" ContentType="image/jpeg"/>
  <Override PartName="/ppt/media/image10.png" ContentType="image/png"/>
  <Override PartName="/ppt/media/image9.wmf" ContentType="image/x-wmf"/>
  <Override PartName="/ppt/media/image5.jpeg" ContentType="image/jpeg"/>
  <Override PartName="/ppt/media/image4.jpeg" ContentType="image/jpeg"/>
  <Override PartName="/ppt/media/image3.jpeg" ContentType="image/jpeg"/>
  <Override PartName="/ppt/media/image27.wmf" ContentType="image/x-wmf"/>
  <Override PartName="/ppt/media/image26.wmf" ContentType="image/x-wmf"/>
  <Override PartName="/ppt/media/image14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jpeg" ContentType="image/jpeg"/>
  <Override PartName="/ppt/media/image2.jpeg" ContentType="image/jpeg"/>
  <Override PartName="/ppt/media/image25.wmf" ContentType="image/x-wmf"/>
  <Override PartName="/ppt/media/image1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A4180-690A-4B9D-AEB2-1B9FD6DC4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5E7F5-B64A-4441-967C-EE3DC38583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96382-1239-4F78-BA66-FBE45C7BD5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AC056-8C55-4350-9507-31F4847E35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3E7C2-1C76-48DF-B466-DB0587A271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BB793-2D8B-4667-8CE9-D166CD3CB9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1EAAE-3E5C-43F6-BA22-27087043AC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89426-1797-40A7-B4CC-3FEA7ECCF8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FC507-1713-42A9-A556-527C131D2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D84CE-A423-40C7-BBA2-351DAC1D93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50D72-F401-4DBF-ADBC-79FC2A4B2E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1EFD3-D748-4EA0-9955-27C510A675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591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7D57-053A-4B52-908D-697175A3BA7C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6578640"/>
            <a:ext cx="883944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85800"/>
            <a:ext cx="9148680" cy="4680"/>
          </a:xfrm>
          <a:custGeom>
            <a:avLst/>
            <a:gdLst/>
            <a:ahLst/>
            <a:rect l="l" t="t" r="r" b="b"/>
            <a:pathLst>
              <a:path w="5763" h="3">
                <a:moveTo>
                  <a:pt x="0" y="0"/>
                </a:moveTo>
                <a:lnTo>
                  <a:pt x="5763" y="3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566040"/>
            <a:ext cx="1447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Arial"/>
              </a:rPr>
              <a:t>Marzo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6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22860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esca en el Perú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iqueza y Respons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828800" y="41432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Lic. Walter Martinez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65160" y="838080"/>
            <a:ext cx="7200720" cy="1371600"/>
            <a:chOff x="965160" y="838080"/>
            <a:chExt cx="7200720" cy="1371600"/>
          </a:xfrm>
        </p:grpSpPr>
        <p:pic>
          <p:nvPicPr>
            <p:cNvPr id="45" name="Barco%2012" descr=""/>
            <p:cNvPicPr/>
            <p:nvPr/>
          </p:nvPicPr>
          <p:blipFill>
            <a:blip r:embed="rId1"/>
            <a:stretch/>
          </p:blipFill>
          <p:spPr>
            <a:xfrm>
              <a:off x="965160" y="838080"/>
              <a:ext cx="2286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lanta%2012" descr=""/>
            <p:cNvPicPr/>
            <p:nvPr/>
          </p:nvPicPr>
          <p:blipFill>
            <a:blip r:embed="rId2"/>
            <a:stretch/>
          </p:blipFill>
          <p:spPr>
            <a:xfrm>
              <a:off x="3251160" y="838080"/>
              <a:ext cx="2406600" cy="13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Trabajadores%2012" descr=""/>
            <p:cNvPicPr/>
            <p:nvPr/>
          </p:nvPicPr>
          <p:blipFill>
            <a:blip r:embed="rId3"/>
            <a:stretch/>
          </p:blipFill>
          <p:spPr>
            <a:xfrm>
              <a:off x="5651280" y="838080"/>
              <a:ext cx="2514600" cy="13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"/>
          <p:cNvGrpSpPr/>
          <p:nvPr/>
        </p:nvGrpSpPr>
        <p:grpSpPr>
          <a:xfrm>
            <a:off x="1104840" y="4952880"/>
            <a:ext cx="6934320" cy="1378080"/>
            <a:chOff x="1104840" y="4952880"/>
            <a:chExt cx="6934320" cy="1378080"/>
          </a:xfrm>
        </p:grpSpPr>
        <p:pic>
          <p:nvPicPr>
            <p:cNvPr id="49" name="Conservas%2012" descr=""/>
            <p:cNvPicPr/>
            <p:nvPr/>
          </p:nvPicPr>
          <p:blipFill>
            <a:blip r:embed="rId4"/>
            <a:stretch/>
          </p:blipFill>
          <p:spPr>
            <a:xfrm>
              <a:off x="5676840" y="4952880"/>
              <a:ext cx="236232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eces%2012" descr=""/>
            <p:cNvPicPr/>
            <p:nvPr/>
          </p:nvPicPr>
          <p:blipFill>
            <a:blip r:embed="rId5"/>
            <a:stretch/>
          </p:blipFill>
          <p:spPr>
            <a:xfrm>
              <a:off x="1104840" y="4952880"/>
              <a:ext cx="243828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Harina-Laboratorio" descr=""/>
            <p:cNvPicPr/>
            <p:nvPr/>
          </p:nvPicPr>
          <p:blipFill>
            <a:blip r:embed="rId6"/>
            <a:stretch/>
          </p:blipFill>
          <p:spPr>
            <a:xfrm>
              <a:off x="3543120" y="4952880"/>
              <a:ext cx="2133720" cy="13780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2" name=""/>
          <p:cNvGraphicFramePr/>
          <p:nvPr/>
        </p:nvGraphicFramePr>
        <p:xfrm>
          <a:off x="1981080" y="3838680"/>
          <a:ext cx="62568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3838680"/>
                    <a:ext cx="625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2828520" y="37339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LA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380880" y="4038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533520"/>
            <a:ext cx="426708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 u="sng">
                <a:solidFill>
                  <a:srgbClr val="000000"/>
                </a:solidFill>
                <a:uFillTx/>
                <a:latin typeface="Times New Roman"/>
              </a:rPr>
              <a:t>Acuicul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Hp y Ap son productos naturales con altos  niveles protéicos y calórico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Hp y Ap son productos con poca probabilidad de sustitución.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 u="sng">
                <a:solidFill>
                  <a:srgbClr val="000000"/>
                </a:solidFill>
                <a:uFillTx/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China es el principal productor de alimentos marinos a nivel mundial, 38% producción mundial en 2002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El 40% de la producción de alimentos marinos es acuicultura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China es el principal demandante de harina de pescado a nivel mundial, consume 30% producción mundia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x8002e03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3886200" cy="26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5" name=""/>
          <p:cNvGraphicFramePr/>
          <p:nvPr/>
        </p:nvGraphicFramePr>
        <p:xfrm>
          <a:off x="5257800" y="2597040"/>
          <a:ext cx="2895480" cy="831600"/>
        </p:xfrm>
        <a:graphic>
          <a:graphicData uri="http://schemas.openxmlformats.org/drawingml/2006/table">
            <a:tbl>
              <a:tblPr/>
              <a:tblGrid>
                <a:gridCol w="761760"/>
                <a:gridCol w="685800"/>
                <a:gridCol w="723960"/>
                <a:gridCol w="723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e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609480" y="3836880"/>
            <a:ext cx="3962520" cy="2625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533520" y="6400800"/>
            <a:ext cx="487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800" spc="-1" strike="noStrike">
                <a:solidFill>
                  <a:srgbClr val="ff0000"/>
                </a:solidFill>
                <a:latin typeface="Arial"/>
              </a:rPr>
              <a:t>Fuente: International Fishmeal and Oil Fish Organisartion (IFFO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76920" y="5867280"/>
            <a:ext cx="38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! Evaluar y Cuantificar el efecto en las exportaciones pesqueras, de la aprobación de Salvaguardas a los textiles Chinos 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105520" y="342900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3333cc"/>
                </a:solidFill>
                <a:latin typeface="Times New Roman"/>
              </a:rPr>
              <a:t>Crecimiento de los usos de Harina y Aceite en la acuicult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931160" y="358128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66"/>
                </a:solidFill>
                <a:latin typeface="Times New Roman"/>
              </a:rPr>
              <a:t>FA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73387-9D64-4419-9153-28C131927632}" type="slidenum">
              <a:t>10</a:t>
            </a:fld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876920" y="2475000"/>
            <a:ext cx="388620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Los años 90 fueron el inicio de las Harinas Steam, actualmente al 2003 se alcanza una participación del total 45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Adecuación de las plantas industriales a los </a:t>
            </a:r>
            <a:r>
              <a:rPr b="0" lang="es-PE" sz="1400" spc="-1" strike="noStrike">
                <a:solidFill>
                  <a:srgbClr val="ff0000"/>
                </a:solidFill>
                <a:latin typeface="Times New Roman"/>
              </a:rPr>
              <a:t>programas de adecuamiento de medio ambi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Obtención de certificación de procesos productivos por parte de organizaciones internacionales: Haccp, GMP13, F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0"/>
            <a:ext cx="39625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49200" y="1797120"/>
            <a:ext cx="3807000" cy="26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873000" y="2285640"/>
            <a:ext cx="3775320" cy="176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987480" y="2662200"/>
            <a:ext cx="226800" cy="1190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442880" y="2749680"/>
            <a:ext cx="227160" cy="1103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897200" y="2803680"/>
            <a:ext cx="228600" cy="1049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352600" y="2898720"/>
            <a:ext cx="228600" cy="95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808360" y="2968560"/>
            <a:ext cx="226800" cy="884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63760" y="2968560"/>
            <a:ext cx="227160" cy="884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718080" y="2978280"/>
            <a:ext cx="228600" cy="874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87480" y="2330280"/>
            <a:ext cx="226800" cy="331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442880" y="2330280"/>
            <a:ext cx="227160" cy="419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897200" y="2365200"/>
            <a:ext cx="228600" cy="438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52600" y="2365200"/>
            <a:ext cx="2286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08360" y="2390760"/>
            <a:ext cx="226800" cy="577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63760" y="2408400"/>
            <a:ext cx="227160" cy="560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718080" y="2417760"/>
            <a:ext cx="228600" cy="560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87480" y="2303640"/>
            <a:ext cx="226800" cy="26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42880" y="2303640"/>
            <a:ext cx="227160" cy="26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97200" y="2303640"/>
            <a:ext cx="228600" cy="61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352600" y="2303640"/>
            <a:ext cx="228600" cy="61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808360" y="2303640"/>
            <a:ext cx="226800" cy="8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263760" y="2303640"/>
            <a:ext cx="227160" cy="104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718080" y="2303640"/>
            <a:ext cx="228600" cy="114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73000" y="2303640"/>
            <a:ext cx="1800" cy="1549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47800" y="385272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47800" y="354636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47800" y="323208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47800" y="292572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47800" y="2610000"/>
            <a:ext cx="2520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47800" y="2303640"/>
            <a:ext cx="2520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73000" y="3541680"/>
            <a:ext cx="3802320" cy="180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73000" y="3222720"/>
            <a:ext cx="3802320" cy="14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73000" y="2911320"/>
            <a:ext cx="3802320" cy="180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73000" y="2590920"/>
            <a:ext cx="3775320" cy="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73000" y="3852720"/>
            <a:ext cx="380232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87300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132876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178452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23848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69388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314964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360504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410364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07800" y="1874880"/>
            <a:ext cx="2752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EVOLUCIÓN DE LA PRODUCCIÓN DE HARINA D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899000" y="2023920"/>
            <a:ext cx="1300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PESCADO SEGÚN TI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89760" y="379260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39720" y="348624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39720" y="317016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4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9720" y="286380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6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39720" y="254952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8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0040" y="2243160"/>
            <a:ext cx="26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0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2816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48212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93788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9328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84724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30300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75876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784520" y="4186080"/>
            <a:ext cx="1365120" cy="1922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19440" y="4246560"/>
            <a:ext cx="60120" cy="61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23120" y="4211640"/>
            <a:ext cx="210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FA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143080" y="4246560"/>
            <a:ext cx="60480" cy="61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63320" y="4211640"/>
            <a:ext cx="26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Pri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502000" y="4246560"/>
            <a:ext cx="60120" cy="61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88760" y="4211640"/>
            <a:ext cx="567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80"/>
                </a:solidFill>
                <a:latin typeface="Arial"/>
              </a:rPr>
              <a:t>Super Pri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620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4" name=""/>
          <p:cNvSpPr/>
          <p:nvPr/>
        </p:nvSpPr>
        <p:spPr>
          <a:xfrm>
            <a:off x="1523880" y="2924280"/>
            <a:ext cx="19051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0880" y="914400"/>
            <a:ext cx="83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0" i="1" lang="es-PE" sz="1800" spc="-1" strike="noStrike">
                <a:solidFill>
                  <a:srgbClr val="000066"/>
                </a:solidFill>
                <a:latin typeface="Times New Roman"/>
              </a:rPr>
              <a:t>Resultados de laTransformación Industria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63680" y="4570560"/>
            <a:ext cx="416700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88160" y="5972040"/>
            <a:ext cx="1030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66"/>
                </a:solidFill>
                <a:latin typeface="Arial"/>
              </a:rPr>
              <a:t>1/ </a:t>
            </a:r>
            <a:r>
              <a:rPr b="0" i="1" lang="es-PE" sz="1000" spc="-1" strike="noStrike">
                <a:solidFill>
                  <a:srgbClr val="000066"/>
                </a:solidFill>
                <a:latin typeface="Arial"/>
              </a:rPr>
              <a:t>Enero </a:t>
            </a:r>
            <a:r>
              <a:rPr b="0" i="1" lang="es-ES" sz="1000" spc="-1" strike="noStrike">
                <a:solidFill>
                  <a:srgbClr val="000066"/>
                </a:solidFill>
                <a:latin typeface="Arial"/>
              </a:rPr>
              <a:t> del </a:t>
            </a:r>
            <a:r>
              <a:rPr b="0" i="1" lang="es-PE" sz="1000" spc="-1" strike="noStrike">
                <a:solidFill>
                  <a:srgbClr val="000066"/>
                </a:solidFill>
                <a:latin typeface="Arial"/>
              </a:rPr>
              <a:t>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985840" y="5970600"/>
            <a:ext cx="182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Fuente: Ministerio de Pesquer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57920" y="4573440"/>
            <a:ext cx="112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66"/>
                </a:solidFill>
                <a:latin typeface="Arial"/>
              </a:rPr>
              <a:t>FLOTA NAC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ransformación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5"/>
          <a:stretch/>
        </p:blipFill>
        <p:spPr>
          <a:xfrm>
            <a:off x="457200" y="4800600"/>
            <a:ext cx="4335480" cy="110808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4159080" y="2971800"/>
            <a:ext cx="260640" cy="87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59080" y="2362320"/>
            <a:ext cx="26064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59080" y="2286000"/>
            <a:ext cx="26064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86000" y="3886200"/>
            <a:ext cx="40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80"/>
                </a:solidFill>
                <a:latin typeface="Arial"/>
              </a:rPr>
              <a:t>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FFDFA-17EC-448B-8D0B-1D846CC72E21}" type="slidenum">
              <a:t>11</a:t>
            </a:fld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380880" y="990720"/>
            <a:ext cx="807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Nuestra participación a nivel mundial en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conservas y congelados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es reducida, en promedio se encuentra alrededor de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2.4% y 0.6%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respectivament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2"/>
          <a:stretch/>
        </p:blipFill>
        <p:spPr>
          <a:xfrm>
            <a:off x="1066680" y="1781280"/>
            <a:ext cx="6782040" cy="431460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146600" y="30492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31120" y="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UM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15FEB-9D51-42B6-9D8B-772DB7FE24C7}" type="slidenum">
              <a:t>12</a:t>
            </a:fld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8380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E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" y="8827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El Perú  posee diversas especies, de las cuales para el negocio de conservas se utilizan principalmente el jurel y la caball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5791320" y="4038480"/>
            <a:ext cx="2895480" cy="240984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3"/>
          <a:stretch/>
        </p:blipFill>
        <p:spPr>
          <a:xfrm>
            <a:off x="2133720" y="2476440"/>
            <a:ext cx="4752720" cy="133344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3062160" y="2819520"/>
            <a:ext cx="175284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262560" y="2975040"/>
            <a:ext cx="762120" cy="530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743200" y="167652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 a Nivel Nacional </a:t>
            </a:r>
            <a:r>
              <a:rPr b="0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para Conservas 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150920" y="4610160"/>
            <a:ext cx="410040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150920" y="5199120"/>
            <a:ext cx="410040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150920" y="5396040"/>
            <a:ext cx="410040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648080" y="461340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306960" y="461340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J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550400" y="461340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S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217160" y="481644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CION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395520" y="48164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,666,21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471200" y="481644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8,447,56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17520" y="5011560"/>
            <a:ext cx="1198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ORT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395520" y="501156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,209,03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471200" y="501156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1,624,60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217520" y="520236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399480" y="520236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,875,24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75160" y="520236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0,072,17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76480" y="5430960"/>
            <a:ext cx="85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Arial"/>
              </a:rPr>
              <a:t>Fuente: Apoy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143000" y="4602240"/>
            <a:ext cx="1440" cy="799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143000" y="4602240"/>
            <a:ext cx="15840" cy="79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55880" y="4618080"/>
            <a:ext cx="180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855880" y="4618080"/>
            <a:ext cx="1440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079880" y="4618080"/>
            <a:ext cx="144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79880" y="4618080"/>
            <a:ext cx="1584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241960" y="4618080"/>
            <a:ext cx="144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41960" y="4618080"/>
            <a:ext cx="1584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158840" y="460224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158840" y="460224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58840" y="479916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158840" y="4799160"/>
            <a:ext cx="40989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158840" y="499428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158840" y="499428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158840" y="519120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158840" y="519120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158840" y="538812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158840" y="5388120"/>
            <a:ext cx="40989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32411-B778-4F31-88C6-4FCFF84EFBBF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685800" y="304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GE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092960" y="838080"/>
            <a:ext cx="73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El Perú  posee el Jurel, Caballa, la Merluza y la Pota para el negocio de congelado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3219480" cy="221904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3"/>
          <a:stretch/>
        </p:blipFill>
        <p:spPr>
          <a:xfrm>
            <a:off x="4648320" y="2082960"/>
            <a:ext cx="4295520" cy="149832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6235560" y="2351160"/>
            <a:ext cx="1308240" cy="189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772400" y="2540160"/>
            <a:ext cx="129528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386920" y="2801880"/>
            <a:ext cx="757080" cy="189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317080" y="3116160"/>
            <a:ext cx="826920" cy="185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257800" y="144792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 a Nivel Nacional </a:t>
            </a:r>
            <a:r>
              <a:rPr b="0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para Congelados 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9480" y="1447920"/>
            <a:ext cx="7999560" cy="43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04200" y="177480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7480" y="17748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06960" y="1774800"/>
            <a:ext cx="1735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JUREL, CABALLA Y SARD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319200" y="177480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12840" y="1984320"/>
            <a:ext cx="31082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04920" y="1976400"/>
            <a:ext cx="3124080" cy="1584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04920" y="2070000"/>
            <a:ext cx="13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75480" y="2070000"/>
            <a:ext cx="4173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de cerco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ref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riger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04920" y="230508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71880" y="2305080"/>
            <a:ext cx="292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Mercado grande con  márgenes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importantes en volúme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04920" y="2532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74040" y="2532240"/>
            <a:ext cx="216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limitante es la capacidad de plan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04920" y="2768760"/>
            <a:ext cx="164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74040" y="2768760"/>
            <a:ext cx="251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Diversificar productos: Entero, Filetes, HGT, et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4920" y="299556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22640" y="2995560"/>
            <a:ext cx="45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81360" y="2995560"/>
            <a:ext cx="3003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e exportación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y opción de consolidar en el mercado local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54960" y="322272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98240" y="32227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26760" y="322272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ERLU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584000" y="322272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12840" y="3433680"/>
            <a:ext cx="34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04920" y="3424320"/>
            <a:ext cx="507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63600" y="3433680"/>
            <a:ext cx="15494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55680" y="3424320"/>
            <a:ext cx="1565280" cy="1728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04920" y="3459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23000" y="3459240"/>
            <a:ext cx="317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650400" y="3459240"/>
            <a:ext cx="44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rrastr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04920" y="36860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23360" y="3686040"/>
            <a:ext cx="3052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limitante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la materia prima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 recurso en recuperación.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04920" y="391320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20480" y="3913200"/>
            <a:ext cx="1294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ción solo en Pai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41497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22280" y="4149720"/>
            <a:ext cx="127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 de export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54960" y="450360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98240" y="45036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51960" y="4503600"/>
            <a:ext cx="174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VARIADOS (DE TEMPORAD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362040" y="450360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840" y="4713120"/>
            <a:ext cx="31496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04920" y="4705200"/>
            <a:ext cx="3165480" cy="1620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04920" y="47815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9400" y="4781520"/>
            <a:ext cx="3231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ota, calamar, tiburón, pulpo, langostino,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conchas,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anguila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04920" y="503388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24080" y="5033880"/>
            <a:ext cx="354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artesan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04920" y="5286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23000" y="5286240"/>
            <a:ext cx="195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critico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  recursos de tempor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04920" y="553896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1200" y="5538960"/>
            <a:ext cx="1942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con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importantes márge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04920" y="57913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22280" y="5791320"/>
            <a:ext cx="127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 de export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97EE8-C65F-447B-B30B-201711509A75}" type="slidenum">
              <a:t>14</a:t>
            </a:fld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457200" y="22654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bemos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guir con la tendencia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de producir Harina y Aceite de alta cal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57200" y="3505320"/>
            <a:ext cx="8229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bemos acelerar el proceso de contar con una marca de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“Denominación de Origen”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-763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38080" y="1143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DE05F-9AC6-47D7-A6B4-5F45322BA574}" type="slidenum">
              <a:t>15</a:t>
            </a:fld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533520" y="1444680"/>
            <a:ext cx="8076960" cy="13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bemos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invertir en almacenes de fri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para darle sostenimiento productivo en el tiempo a las especies estacionales, Jurel-Caball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8380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E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40240" y="92880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21400" y="4983120"/>
            <a:ext cx="8386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Atún: Revisar l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regulación impositiv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, a fin de poder lograr alianzas estratégic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23200" y="4038480"/>
            <a:ext cx="5117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y consolid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el cluster conserver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19960" y="3002040"/>
            <a:ext cx="8350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bemos ir adquiriendo mejo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tecnología en la conserverí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 para ser competitiv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C9075-28C5-4BA3-BE43-D152E55E5D99}" type="slidenum">
              <a:t>16</a:t>
            </a:fld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533520" y="1444680"/>
            <a:ext cx="77724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 algn="just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Obtener l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información de Biomas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(Cientifica-Biológica:IMARPE) de las principales especies comerciales (Jurel, Caballa, Calamar, Perico, Anguila, etc.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6094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GE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40240" y="92880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21400" y="5105520"/>
            <a:ext cx="5861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 un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Cadena de frí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para el mercado local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24640" y="4114800"/>
            <a:ext cx="5364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y consolid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el cluster del congelad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04920" y="2971800"/>
            <a:ext cx="8610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Cre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alianzas estratégicas con productos de valor agregad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y consumo final en destinos (ejem: empanizados, lomos cocidos, etc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3E31D-247B-477D-BB86-B6F4D90F6494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-76320" y="76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600200" y="1981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11480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47712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2,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838080" y="2487600"/>
            <a:ext cx="7543440" cy="2391120"/>
            <a:chOff x="838080" y="2487600"/>
            <a:chExt cx="7543440" cy="2391120"/>
          </a:xfrm>
        </p:grpSpPr>
        <p:graphicFrame>
          <p:nvGraphicFramePr>
            <p:cNvPr id="780" name=""/>
            <p:cNvGraphicFramePr/>
            <p:nvPr/>
          </p:nvGraphicFramePr>
          <p:xfrm>
            <a:off x="3301200" y="2487600"/>
            <a:ext cx="2617200" cy="236232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78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301200" y="2487600"/>
                      <a:ext cx="261720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2" name=""/>
            <p:cNvGraphicFramePr/>
            <p:nvPr/>
          </p:nvGraphicFramePr>
          <p:xfrm>
            <a:off x="5764320" y="2487600"/>
            <a:ext cx="2617200" cy="236232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78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764320" y="2487600"/>
                      <a:ext cx="261720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4" name=""/>
            <p:cNvGraphicFramePr/>
            <p:nvPr/>
          </p:nvGraphicFramePr>
          <p:xfrm>
            <a:off x="838080" y="2487600"/>
            <a:ext cx="2616840" cy="2362320"/>
          </p:xfrm>
          <a:graphic>
            <a:graphicData uri="http://schemas.openxmlformats.org/presentationml/2006/ole">
              <p:oleObj progId="Excel.Sheet.12" r:id="rId6" spid="">
                <p:embed/>
                <p:pic>
                  <p:nvPicPr>
                    <p:cNvPr id="78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38080" y="2487600"/>
                      <a:ext cx="261684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6" name=""/>
            <p:cNvSpPr/>
            <p:nvPr/>
          </p:nvSpPr>
          <p:spPr>
            <a:xfrm>
              <a:off x="260964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31540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77816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10000" y="3904920"/>
              <a:ext cx="411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91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329080" y="3904920"/>
              <a:ext cx="50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83,6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766640" y="3904920"/>
              <a:ext cx="50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75,6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38520" y="282492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871280" y="2950200"/>
              <a:ext cx="16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9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71280" y="298512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703680" y="311076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7.8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916600" y="343224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951880" y="355608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6.8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982120" y="2799720"/>
              <a:ext cx="55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serv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101280" y="29235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12,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826080" y="2646360"/>
              <a:ext cx="55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serv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947400" y="277164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5,7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439320" y="262224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gel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577560" y="274608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5.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36280" y="256896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gel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041440" y="255636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0.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148880" y="2556360"/>
              <a:ext cx="31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000" spc="-1" strike="noStrike">
                  <a:solidFill>
                    <a:srgbClr val="000080"/>
                  </a:solidFill>
                  <a:latin typeface="Arial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212600" y="268416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1.7%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610520" y="2843280"/>
              <a:ext cx="31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000" spc="-1" strike="noStrike">
                  <a:solidFill>
                    <a:srgbClr val="000080"/>
                  </a:solidFill>
                  <a:latin typeface="Arial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69200" y="297252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2.6%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4455720" y="2689560"/>
              <a:ext cx="15372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4302000" y="2757600"/>
              <a:ext cx="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6996240" y="2689560"/>
              <a:ext cx="15372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839640" y="4647600"/>
              <a:ext cx="1490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120´398,000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913040" y="4647600"/>
              <a:ext cx="1361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32´566,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338720" y="4647600"/>
              <a:ext cx="1425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91´000,0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1676520" y="52578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00% FA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019920" y="516420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00 % ST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371600" y="48769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Producción Harina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42900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019920" y="48769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Producción Harina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91120" y="525780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D1438-E305-4D31-9CAB-B8204F93453E}" type="slidenum">
              <a:t>18</a:t>
            </a:fld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33520" y="76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825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6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7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9" name=""/>
          <p:cNvSpPr/>
          <p:nvPr/>
        </p:nvSpPr>
        <p:spPr>
          <a:xfrm>
            <a:off x="457200" y="127944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 el aprovechamiento de los recursos pesqueros de manera sostenible, en armonía con el medio ambiente y 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conservación de la biodiversidad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 de especie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793960" y="747720"/>
            <a:ext cx="2997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Pesca Respons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781600" y="3417840"/>
            <a:ext cx="2524320" cy="1077840"/>
          </a:xfrm>
          <a:prstGeom prst="rect">
            <a:avLst/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MPRESAS (S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RECI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RENTABILID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ALIDAD - EMPLE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 u="sng">
                <a:solidFill>
                  <a:srgbClr val="ff0000"/>
                </a:solidFill>
                <a:uFillTx/>
                <a:latin typeface="Times New Roman"/>
              </a:rPr>
              <a:t>MISION SO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847960" y="2743200"/>
            <a:ext cx="331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Rol de Act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3417840"/>
            <a:ext cx="2524320" cy="107784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ONSERV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DEL 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2133720" y="4525920"/>
            <a:ext cx="4727520" cy="1722240"/>
            <a:chOff x="2133720" y="4525920"/>
            <a:chExt cx="4727520" cy="1722240"/>
          </a:xfrm>
        </p:grpSpPr>
        <p:sp>
          <p:nvSpPr>
            <p:cNvPr id="835" name=""/>
            <p:cNvSpPr/>
            <p:nvPr/>
          </p:nvSpPr>
          <p:spPr>
            <a:xfrm>
              <a:off x="2703240" y="5181480"/>
              <a:ext cx="3575880" cy="1066680"/>
            </a:xfrm>
            <a:prstGeom prst="rect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“</a:t>
              </a: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DESARROLLO  DE  NEGOCIOS QUE GENEREN  MAYOR  VALOR  CON  EL MENOR USO DE RECURSO PESQUERO”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86124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55519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55192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268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21337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13372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4B475-B0AF-4D3E-A66E-43F93B95C4CC}" type="slidenum">
              <a:t>19</a:t>
            </a:fld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76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58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457200" y="127944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 el aprovechamiento de los recursos pesqueros de manera sostenible, en armonía con el medio ambiente y 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conservación de la biodiversidad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 de especie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93960" y="747720"/>
            <a:ext cx="2997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Pesca Respons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200400" y="3882960"/>
            <a:ext cx="2471400" cy="488520"/>
            <a:chOff x="3200400" y="3882960"/>
            <a:chExt cx="2471400" cy="488520"/>
          </a:xfrm>
        </p:grpSpPr>
        <p:sp>
          <p:nvSpPr>
            <p:cNvPr id="65" name=""/>
            <p:cNvSpPr/>
            <p:nvPr/>
          </p:nvSpPr>
          <p:spPr>
            <a:xfrm>
              <a:off x="3467160" y="4057920"/>
              <a:ext cx="18180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¿ CONFLICTO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3882960"/>
              <a:ext cx="247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5781600" y="3417840"/>
            <a:ext cx="2524320" cy="1077840"/>
          </a:xfrm>
          <a:prstGeom prst="rect">
            <a:avLst/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MPRESAS (S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RECI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RENTABILID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ALIDAD - EMPLE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MISION SO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47960" y="2743200"/>
            <a:ext cx="331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Rol de Act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3417840"/>
            <a:ext cx="2524320" cy="107784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ONSERV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DEL 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133720" y="4525920"/>
            <a:ext cx="4727520" cy="1722240"/>
            <a:chOff x="2133720" y="4525920"/>
            <a:chExt cx="4727520" cy="1722240"/>
          </a:xfrm>
        </p:grpSpPr>
        <p:sp>
          <p:nvSpPr>
            <p:cNvPr id="71" name=""/>
            <p:cNvSpPr/>
            <p:nvPr/>
          </p:nvSpPr>
          <p:spPr>
            <a:xfrm>
              <a:off x="2703240" y="5181480"/>
              <a:ext cx="3575880" cy="1066680"/>
            </a:xfrm>
            <a:prstGeom prst="rect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“</a:t>
              </a: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DESARROLLO  DE  NEGOCIOS QUE GENEREN  MAYOR  VALOR  CON  EL MENOR USO DE RECURSO PESQUERO”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6124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5519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5192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4268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1337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3372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327EA-25F5-4920-B138-7B56EF208492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914400" y="22860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esca en el Perú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iqueza y Respons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1828800" y="41432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Lic. Walter Martinez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965160" y="838080"/>
            <a:ext cx="7200720" cy="1371600"/>
            <a:chOff x="965160" y="838080"/>
            <a:chExt cx="7200720" cy="1371600"/>
          </a:xfrm>
        </p:grpSpPr>
        <p:pic>
          <p:nvPicPr>
            <p:cNvPr id="845" name="Barco%2012" descr=""/>
            <p:cNvPicPr/>
            <p:nvPr/>
          </p:nvPicPr>
          <p:blipFill>
            <a:blip r:embed="rId1"/>
            <a:stretch/>
          </p:blipFill>
          <p:spPr>
            <a:xfrm>
              <a:off x="965160" y="838080"/>
              <a:ext cx="2286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Planta%2012" descr=""/>
            <p:cNvPicPr/>
            <p:nvPr/>
          </p:nvPicPr>
          <p:blipFill>
            <a:blip r:embed="rId2"/>
            <a:stretch/>
          </p:blipFill>
          <p:spPr>
            <a:xfrm>
              <a:off x="3251160" y="838080"/>
              <a:ext cx="2406600" cy="13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Trabajadores%2012" descr=""/>
            <p:cNvPicPr/>
            <p:nvPr/>
          </p:nvPicPr>
          <p:blipFill>
            <a:blip r:embed="rId3"/>
            <a:stretch/>
          </p:blipFill>
          <p:spPr>
            <a:xfrm>
              <a:off x="5651280" y="838080"/>
              <a:ext cx="2514600" cy="13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8" name=""/>
          <p:cNvGrpSpPr/>
          <p:nvPr/>
        </p:nvGrpSpPr>
        <p:grpSpPr>
          <a:xfrm>
            <a:off x="1104840" y="4952880"/>
            <a:ext cx="6934320" cy="1378080"/>
            <a:chOff x="1104840" y="4952880"/>
            <a:chExt cx="6934320" cy="1378080"/>
          </a:xfrm>
        </p:grpSpPr>
        <p:pic>
          <p:nvPicPr>
            <p:cNvPr id="849" name="Conservas%2012" descr=""/>
            <p:cNvPicPr/>
            <p:nvPr/>
          </p:nvPicPr>
          <p:blipFill>
            <a:blip r:embed="rId4"/>
            <a:stretch/>
          </p:blipFill>
          <p:spPr>
            <a:xfrm>
              <a:off x="5676840" y="4952880"/>
              <a:ext cx="236232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Peces%2012" descr=""/>
            <p:cNvPicPr/>
            <p:nvPr/>
          </p:nvPicPr>
          <p:blipFill>
            <a:blip r:embed="rId5"/>
            <a:stretch/>
          </p:blipFill>
          <p:spPr>
            <a:xfrm>
              <a:off x="1104840" y="4952880"/>
              <a:ext cx="243828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Harina-Laboratorio" descr=""/>
            <p:cNvPicPr/>
            <p:nvPr/>
          </p:nvPicPr>
          <p:blipFill>
            <a:blip r:embed="rId6"/>
            <a:stretch/>
          </p:blipFill>
          <p:spPr>
            <a:xfrm>
              <a:off x="3543120" y="4952880"/>
              <a:ext cx="2133720" cy="13780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852" name=""/>
          <p:cNvGraphicFramePr/>
          <p:nvPr/>
        </p:nvGraphicFramePr>
        <p:xfrm>
          <a:off x="1981080" y="3838680"/>
          <a:ext cx="62568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3838680"/>
                    <a:ext cx="625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4" name=""/>
          <p:cNvSpPr/>
          <p:nvPr/>
        </p:nvSpPr>
        <p:spPr>
          <a:xfrm>
            <a:off x="2828520" y="37339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6699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209680" y="3311640"/>
            <a:ext cx="382680" cy="887400"/>
          </a:xfrm>
          <a:custGeom>
            <a:avLst/>
            <a:gdLst/>
            <a:ahLst/>
            <a:rect l="l" t="t" r="r" b="b"/>
            <a:pathLst>
              <a:path w="236" h="474">
                <a:moveTo>
                  <a:pt x="236" y="268"/>
                </a:moveTo>
                <a:lnTo>
                  <a:pt x="227" y="261"/>
                </a:lnTo>
                <a:lnTo>
                  <a:pt x="213" y="257"/>
                </a:lnTo>
                <a:lnTo>
                  <a:pt x="205" y="250"/>
                </a:lnTo>
                <a:lnTo>
                  <a:pt x="196" y="246"/>
                </a:lnTo>
                <a:lnTo>
                  <a:pt x="182" y="239"/>
                </a:lnTo>
                <a:lnTo>
                  <a:pt x="173" y="232"/>
                </a:lnTo>
                <a:lnTo>
                  <a:pt x="164" y="228"/>
                </a:lnTo>
                <a:lnTo>
                  <a:pt x="156" y="221"/>
                </a:lnTo>
                <a:lnTo>
                  <a:pt x="147" y="214"/>
                </a:lnTo>
                <a:lnTo>
                  <a:pt x="133" y="210"/>
                </a:lnTo>
                <a:lnTo>
                  <a:pt x="133" y="210"/>
                </a:lnTo>
                <a:lnTo>
                  <a:pt x="129" y="203"/>
                </a:lnTo>
                <a:lnTo>
                  <a:pt x="120" y="196"/>
                </a:lnTo>
                <a:lnTo>
                  <a:pt x="111" y="189"/>
                </a:lnTo>
                <a:lnTo>
                  <a:pt x="102" y="181"/>
                </a:lnTo>
                <a:lnTo>
                  <a:pt x="93" y="178"/>
                </a:lnTo>
                <a:lnTo>
                  <a:pt x="89" y="170"/>
                </a:lnTo>
                <a:lnTo>
                  <a:pt x="80" y="163"/>
                </a:lnTo>
                <a:lnTo>
                  <a:pt x="71" y="156"/>
                </a:lnTo>
                <a:lnTo>
                  <a:pt x="66" y="149"/>
                </a:lnTo>
                <a:lnTo>
                  <a:pt x="62" y="141"/>
                </a:lnTo>
                <a:lnTo>
                  <a:pt x="53" y="138"/>
                </a:lnTo>
                <a:lnTo>
                  <a:pt x="49" y="131"/>
                </a:lnTo>
                <a:lnTo>
                  <a:pt x="44" y="123"/>
                </a:lnTo>
                <a:lnTo>
                  <a:pt x="40" y="116"/>
                </a:lnTo>
                <a:lnTo>
                  <a:pt x="35" y="109"/>
                </a:lnTo>
                <a:lnTo>
                  <a:pt x="31" y="102"/>
                </a:lnTo>
                <a:lnTo>
                  <a:pt x="26" y="94"/>
                </a:lnTo>
                <a:lnTo>
                  <a:pt x="22" y="87"/>
                </a:lnTo>
                <a:lnTo>
                  <a:pt x="17" y="80"/>
                </a:lnTo>
                <a:lnTo>
                  <a:pt x="13" y="73"/>
                </a:lnTo>
                <a:lnTo>
                  <a:pt x="13" y="73"/>
                </a:lnTo>
                <a:lnTo>
                  <a:pt x="13" y="65"/>
                </a:lnTo>
                <a:lnTo>
                  <a:pt x="9" y="58"/>
                </a:lnTo>
                <a:lnTo>
                  <a:pt x="4" y="51"/>
                </a:lnTo>
                <a:lnTo>
                  <a:pt x="4" y="44"/>
                </a:lnTo>
                <a:lnTo>
                  <a:pt x="4" y="36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0" y="7"/>
                </a:lnTo>
                <a:lnTo>
                  <a:pt x="0" y="0"/>
                </a:lnTo>
                <a:lnTo>
                  <a:pt x="0" y="207"/>
                </a:lnTo>
                <a:lnTo>
                  <a:pt x="0" y="214"/>
                </a:lnTo>
                <a:lnTo>
                  <a:pt x="0" y="221"/>
                </a:lnTo>
                <a:lnTo>
                  <a:pt x="0" y="228"/>
                </a:lnTo>
                <a:lnTo>
                  <a:pt x="0" y="236"/>
                </a:lnTo>
                <a:lnTo>
                  <a:pt x="4" y="243"/>
                </a:lnTo>
                <a:lnTo>
                  <a:pt x="4" y="250"/>
                </a:lnTo>
                <a:lnTo>
                  <a:pt x="4" y="257"/>
                </a:lnTo>
                <a:lnTo>
                  <a:pt x="9" y="265"/>
                </a:lnTo>
                <a:lnTo>
                  <a:pt x="13" y="272"/>
                </a:lnTo>
                <a:lnTo>
                  <a:pt x="13" y="279"/>
                </a:lnTo>
                <a:lnTo>
                  <a:pt x="13" y="279"/>
                </a:lnTo>
                <a:lnTo>
                  <a:pt x="17" y="286"/>
                </a:lnTo>
                <a:lnTo>
                  <a:pt x="22" y="293"/>
                </a:lnTo>
                <a:lnTo>
                  <a:pt x="26" y="301"/>
                </a:lnTo>
                <a:lnTo>
                  <a:pt x="31" y="308"/>
                </a:lnTo>
                <a:lnTo>
                  <a:pt x="35" y="315"/>
                </a:lnTo>
                <a:lnTo>
                  <a:pt x="40" y="322"/>
                </a:lnTo>
                <a:lnTo>
                  <a:pt x="44" y="330"/>
                </a:lnTo>
                <a:lnTo>
                  <a:pt x="49" y="337"/>
                </a:lnTo>
                <a:lnTo>
                  <a:pt x="53" y="344"/>
                </a:lnTo>
                <a:lnTo>
                  <a:pt x="62" y="348"/>
                </a:lnTo>
                <a:lnTo>
                  <a:pt x="66" y="355"/>
                </a:lnTo>
                <a:lnTo>
                  <a:pt x="71" y="362"/>
                </a:lnTo>
                <a:lnTo>
                  <a:pt x="80" y="370"/>
                </a:lnTo>
                <a:lnTo>
                  <a:pt x="89" y="377"/>
                </a:lnTo>
                <a:lnTo>
                  <a:pt x="93" y="384"/>
                </a:lnTo>
                <a:lnTo>
                  <a:pt x="102" y="388"/>
                </a:lnTo>
                <a:lnTo>
                  <a:pt x="111" y="395"/>
                </a:lnTo>
                <a:lnTo>
                  <a:pt x="120" y="402"/>
                </a:lnTo>
                <a:lnTo>
                  <a:pt x="129" y="409"/>
                </a:lnTo>
                <a:lnTo>
                  <a:pt x="133" y="417"/>
                </a:lnTo>
                <a:lnTo>
                  <a:pt x="133" y="417"/>
                </a:lnTo>
                <a:lnTo>
                  <a:pt x="147" y="420"/>
                </a:lnTo>
                <a:lnTo>
                  <a:pt x="156" y="427"/>
                </a:lnTo>
                <a:lnTo>
                  <a:pt x="164" y="435"/>
                </a:lnTo>
                <a:lnTo>
                  <a:pt x="173" y="438"/>
                </a:lnTo>
                <a:lnTo>
                  <a:pt x="182" y="446"/>
                </a:lnTo>
                <a:lnTo>
                  <a:pt x="196" y="453"/>
                </a:lnTo>
                <a:lnTo>
                  <a:pt x="205" y="456"/>
                </a:lnTo>
                <a:lnTo>
                  <a:pt x="213" y="464"/>
                </a:lnTo>
                <a:lnTo>
                  <a:pt x="227" y="467"/>
                </a:lnTo>
                <a:lnTo>
                  <a:pt x="236" y="474"/>
                </a:lnTo>
                <a:lnTo>
                  <a:pt x="236" y="268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316320"/>
            <a:ext cx="1273320" cy="890640"/>
          </a:xfrm>
          <a:custGeom>
            <a:avLst/>
            <a:gdLst/>
            <a:ahLst/>
            <a:rect l="l" t="t" r="r" b="b"/>
            <a:pathLst>
              <a:path w="784" h="474">
                <a:moveTo>
                  <a:pt x="784" y="0"/>
                </a:moveTo>
                <a:lnTo>
                  <a:pt x="0" y="268"/>
                </a:lnTo>
                <a:lnTo>
                  <a:pt x="0" y="474"/>
                </a:lnTo>
                <a:lnTo>
                  <a:pt x="784" y="206"/>
                </a:lnTo>
                <a:lnTo>
                  <a:pt x="784" y="0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65680" y="3051000"/>
            <a:ext cx="1557360" cy="654120"/>
          </a:xfrm>
          <a:custGeom>
            <a:avLst/>
            <a:gdLst/>
            <a:ahLst/>
            <a:rect l="l" t="t" r="r" b="b"/>
            <a:pathLst>
              <a:path w="958" h="347">
                <a:moveTo>
                  <a:pt x="0" y="141"/>
                </a:moveTo>
                <a:lnTo>
                  <a:pt x="958" y="0"/>
                </a:lnTo>
                <a:lnTo>
                  <a:pt x="958" y="206"/>
                </a:lnTo>
                <a:lnTo>
                  <a:pt x="0" y="347"/>
                </a:lnTo>
                <a:lnTo>
                  <a:pt x="0" y="141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2620800"/>
            <a:ext cx="3218040" cy="1284480"/>
          </a:xfrm>
          <a:custGeom>
            <a:avLst/>
            <a:gdLst/>
            <a:ahLst/>
            <a:rect l="l" t="t" r="r" b="b"/>
            <a:pathLst>
              <a:path w="1982" h="684">
                <a:moveTo>
                  <a:pt x="236" y="684"/>
                </a:moveTo>
                <a:lnTo>
                  <a:pt x="227" y="677"/>
                </a:lnTo>
                <a:lnTo>
                  <a:pt x="213" y="673"/>
                </a:lnTo>
                <a:lnTo>
                  <a:pt x="205" y="666"/>
                </a:lnTo>
                <a:lnTo>
                  <a:pt x="196" y="658"/>
                </a:lnTo>
                <a:lnTo>
                  <a:pt x="182" y="655"/>
                </a:lnTo>
                <a:lnTo>
                  <a:pt x="173" y="648"/>
                </a:lnTo>
                <a:lnTo>
                  <a:pt x="164" y="640"/>
                </a:lnTo>
                <a:lnTo>
                  <a:pt x="156" y="637"/>
                </a:lnTo>
                <a:lnTo>
                  <a:pt x="147" y="629"/>
                </a:lnTo>
                <a:lnTo>
                  <a:pt x="133" y="622"/>
                </a:lnTo>
                <a:lnTo>
                  <a:pt x="129" y="619"/>
                </a:lnTo>
                <a:lnTo>
                  <a:pt x="120" y="611"/>
                </a:lnTo>
                <a:lnTo>
                  <a:pt x="111" y="604"/>
                </a:lnTo>
                <a:lnTo>
                  <a:pt x="102" y="597"/>
                </a:lnTo>
                <a:lnTo>
                  <a:pt x="93" y="590"/>
                </a:lnTo>
                <a:lnTo>
                  <a:pt x="89" y="586"/>
                </a:lnTo>
                <a:lnTo>
                  <a:pt x="80" y="579"/>
                </a:lnTo>
                <a:lnTo>
                  <a:pt x="71" y="572"/>
                </a:lnTo>
                <a:lnTo>
                  <a:pt x="66" y="564"/>
                </a:lnTo>
                <a:lnTo>
                  <a:pt x="62" y="557"/>
                </a:lnTo>
                <a:lnTo>
                  <a:pt x="53" y="550"/>
                </a:lnTo>
                <a:lnTo>
                  <a:pt x="49" y="543"/>
                </a:lnTo>
                <a:lnTo>
                  <a:pt x="44" y="535"/>
                </a:lnTo>
                <a:lnTo>
                  <a:pt x="40" y="528"/>
                </a:lnTo>
                <a:lnTo>
                  <a:pt x="35" y="524"/>
                </a:lnTo>
                <a:lnTo>
                  <a:pt x="31" y="517"/>
                </a:lnTo>
                <a:lnTo>
                  <a:pt x="26" y="510"/>
                </a:lnTo>
                <a:lnTo>
                  <a:pt x="22" y="503"/>
                </a:lnTo>
                <a:lnTo>
                  <a:pt x="17" y="496"/>
                </a:lnTo>
                <a:lnTo>
                  <a:pt x="13" y="488"/>
                </a:lnTo>
                <a:lnTo>
                  <a:pt x="13" y="481"/>
                </a:lnTo>
                <a:lnTo>
                  <a:pt x="9" y="474"/>
                </a:lnTo>
                <a:lnTo>
                  <a:pt x="4" y="467"/>
                </a:lnTo>
                <a:lnTo>
                  <a:pt x="4" y="459"/>
                </a:lnTo>
                <a:lnTo>
                  <a:pt x="4" y="452"/>
                </a:lnTo>
                <a:lnTo>
                  <a:pt x="0" y="445"/>
                </a:lnTo>
                <a:lnTo>
                  <a:pt x="0" y="438"/>
                </a:lnTo>
                <a:lnTo>
                  <a:pt x="0" y="430"/>
                </a:lnTo>
                <a:lnTo>
                  <a:pt x="0" y="423"/>
                </a:lnTo>
                <a:lnTo>
                  <a:pt x="0" y="416"/>
                </a:lnTo>
                <a:lnTo>
                  <a:pt x="0" y="409"/>
                </a:lnTo>
                <a:lnTo>
                  <a:pt x="0" y="401"/>
                </a:lnTo>
                <a:lnTo>
                  <a:pt x="0" y="394"/>
                </a:lnTo>
                <a:lnTo>
                  <a:pt x="0" y="387"/>
                </a:lnTo>
                <a:lnTo>
                  <a:pt x="4" y="380"/>
                </a:lnTo>
                <a:lnTo>
                  <a:pt x="4" y="372"/>
                </a:lnTo>
                <a:lnTo>
                  <a:pt x="4" y="365"/>
                </a:lnTo>
                <a:lnTo>
                  <a:pt x="9" y="358"/>
                </a:lnTo>
                <a:lnTo>
                  <a:pt x="13" y="351"/>
                </a:lnTo>
                <a:lnTo>
                  <a:pt x="13" y="343"/>
                </a:lnTo>
                <a:lnTo>
                  <a:pt x="17" y="336"/>
                </a:lnTo>
                <a:lnTo>
                  <a:pt x="22" y="329"/>
                </a:lnTo>
                <a:lnTo>
                  <a:pt x="26" y="322"/>
                </a:lnTo>
                <a:lnTo>
                  <a:pt x="31" y="315"/>
                </a:lnTo>
                <a:lnTo>
                  <a:pt x="35" y="307"/>
                </a:lnTo>
                <a:lnTo>
                  <a:pt x="40" y="300"/>
                </a:lnTo>
                <a:lnTo>
                  <a:pt x="44" y="293"/>
                </a:lnTo>
                <a:lnTo>
                  <a:pt x="49" y="286"/>
                </a:lnTo>
                <a:lnTo>
                  <a:pt x="53" y="278"/>
                </a:lnTo>
                <a:lnTo>
                  <a:pt x="62" y="271"/>
                </a:lnTo>
                <a:lnTo>
                  <a:pt x="66" y="267"/>
                </a:lnTo>
                <a:lnTo>
                  <a:pt x="71" y="260"/>
                </a:lnTo>
                <a:lnTo>
                  <a:pt x="80" y="253"/>
                </a:lnTo>
                <a:lnTo>
                  <a:pt x="89" y="246"/>
                </a:lnTo>
                <a:lnTo>
                  <a:pt x="93" y="238"/>
                </a:lnTo>
                <a:lnTo>
                  <a:pt x="102" y="231"/>
                </a:lnTo>
                <a:lnTo>
                  <a:pt x="111" y="228"/>
                </a:lnTo>
                <a:lnTo>
                  <a:pt x="120" y="220"/>
                </a:lnTo>
                <a:lnTo>
                  <a:pt x="129" y="213"/>
                </a:lnTo>
                <a:lnTo>
                  <a:pt x="133" y="206"/>
                </a:lnTo>
                <a:lnTo>
                  <a:pt x="147" y="202"/>
                </a:lnTo>
                <a:lnTo>
                  <a:pt x="156" y="195"/>
                </a:lnTo>
                <a:lnTo>
                  <a:pt x="164" y="188"/>
                </a:lnTo>
                <a:lnTo>
                  <a:pt x="173" y="181"/>
                </a:lnTo>
                <a:lnTo>
                  <a:pt x="182" y="177"/>
                </a:lnTo>
                <a:lnTo>
                  <a:pt x="196" y="170"/>
                </a:lnTo>
                <a:lnTo>
                  <a:pt x="205" y="166"/>
                </a:lnTo>
                <a:lnTo>
                  <a:pt x="213" y="159"/>
                </a:lnTo>
                <a:lnTo>
                  <a:pt x="227" y="152"/>
                </a:lnTo>
                <a:lnTo>
                  <a:pt x="236" y="148"/>
                </a:lnTo>
                <a:lnTo>
                  <a:pt x="249" y="141"/>
                </a:lnTo>
                <a:lnTo>
                  <a:pt x="262" y="137"/>
                </a:lnTo>
                <a:lnTo>
                  <a:pt x="271" y="130"/>
                </a:lnTo>
                <a:lnTo>
                  <a:pt x="285" y="126"/>
                </a:lnTo>
                <a:lnTo>
                  <a:pt x="298" y="119"/>
                </a:lnTo>
                <a:lnTo>
                  <a:pt x="311" y="115"/>
                </a:lnTo>
                <a:lnTo>
                  <a:pt x="325" y="112"/>
                </a:lnTo>
                <a:lnTo>
                  <a:pt x="338" y="105"/>
                </a:lnTo>
                <a:lnTo>
                  <a:pt x="352" y="101"/>
                </a:lnTo>
                <a:lnTo>
                  <a:pt x="365" y="97"/>
                </a:lnTo>
                <a:lnTo>
                  <a:pt x="378" y="90"/>
                </a:lnTo>
                <a:lnTo>
                  <a:pt x="392" y="86"/>
                </a:lnTo>
                <a:lnTo>
                  <a:pt x="405" y="83"/>
                </a:lnTo>
                <a:lnTo>
                  <a:pt x="418" y="79"/>
                </a:lnTo>
                <a:lnTo>
                  <a:pt x="436" y="76"/>
                </a:lnTo>
                <a:lnTo>
                  <a:pt x="450" y="68"/>
                </a:lnTo>
                <a:lnTo>
                  <a:pt x="463" y="65"/>
                </a:lnTo>
                <a:lnTo>
                  <a:pt x="481" y="61"/>
                </a:lnTo>
                <a:lnTo>
                  <a:pt x="494" y="57"/>
                </a:lnTo>
                <a:lnTo>
                  <a:pt x="507" y="54"/>
                </a:lnTo>
                <a:lnTo>
                  <a:pt x="507" y="54"/>
                </a:lnTo>
                <a:lnTo>
                  <a:pt x="525" y="50"/>
                </a:lnTo>
                <a:lnTo>
                  <a:pt x="543" y="47"/>
                </a:lnTo>
                <a:lnTo>
                  <a:pt x="556" y="43"/>
                </a:lnTo>
                <a:lnTo>
                  <a:pt x="574" y="39"/>
                </a:lnTo>
                <a:lnTo>
                  <a:pt x="588" y="39"/>
                </a:lnTo>
                <a:lnTo>
                  <a:pt x="605" y="36"/>
                </a:lnTo>
                <a:lnTo>
                  <a:pt x="623" y="32"/>
                </a:lnTo>
                <a:lnTo>
                  <a:pt x="637" y="29"/>
                </a:lnTo>
                <a:lnTo>
                  <a:pt x="654" y="25"/>
                </a:lnTo>
                <a:lnTo>
                  <a:pt x="672" y="25"/>
                </a:lnTo>
                <a:lnTo>
                  <a:pt x="690" y="21"/>
                </a:lnTo>
                <a:lnTo>
                  <a:pt x="703" y="18"/>
                </a:lnTo>
                <a:lnTo>
                  <a:pt x="721" y="18"/>
                </a:lnTo>
                <a:lnTo>
                  <a:pt x="739" y="14"/>
                </a:lnTo>
                <a:lnTo>
                  <a:pt x="757" y="14"/>
                </a:lnTo>
                <a:lnTo>
                  <a:pt x="775" y="10"/>
                </a:lnTo>
                <a:lnTo>
                  <a:pt x="793" y="10"/>
                </a:lnTo>
                <a:lnTo>
                  <a:pt x="810" y="7"/>
                </a:lnTo>
                <a:lnTo>
                  <a:pt x="824" y="7"/>
                </a:lnTo>
                <a:lnTo>
                  <a:pt x="842" y="3"/>
                </a:lnTo>
                <a:lnTo>
                  <a:pt x="859" y="3"/>
                </a:lnTo>
                <a:lnTo>
                  <a:pt x="877" y="3"/>
                </a:lnTo>
                <a:lnTo>
                  <a:pt x="895" y="3"/>
                </a:lnTo>
                <a:lnTo>
                  <a:pt x="913" y="0"/>
                </a:lnTo>
                <a:lnTo>
                  <a:pt x="931" y="0"/>
                </a:lnTo>
                <a:lnTo>
                  <a:pt x="949" y="0"/>
                </a:lnTo>
                <a:lnTo>
                  <a:pt x="966" y="0"/>
                </a:lnTo>
                <a:lnTo>
                  <a:pt x="984" y="0"/>
                </a:lnTo>
                <a:lnTo>
                  <a:pt x="1002" y="0"/>
                </a:lnTo>
                <a:lnTo>
                  <a:pt x="1020" y="0"/>
                </a:lnTo>
                <a:lnTo>
                  <a:pt x="1038" y="0"/>
                </a:lnTo>
                <a:lnTo>
                  <a:pt x="1055" y="0"/>
                </a:lnTo>
                <a:lnTo>
                  <a:pt x="1073" y="0"/>
                </a:lnTo>
                <a:lnTo>
                  <a:pt x="1091" y="0"/>
                </a:lnTo>
                <a:lnTo>
                  <a:pt x="1109" y="0"/>
                </a:lnTo>
                <a:lnTo>
                  <a:pt x="1127" y="0"/>
                </a:lnTo>
                <a:lnTo>
                  <a:pt x="1145" y="3"/>
                </a:lnTo>
                <a:lnTo>
                  <a:pt x="1162" y="3"/>
                </a:lnTo>
                <a:lnTo>
                  <a:pt x="1180" y="3"/>
                </a:lnTo>
                <a:lnTo>
                  <a:pt x="1198" y="3"/>
                </a:lnTo>
                <a:lnTo>
                  <a:pt x="1216" y="7"/>
                </a:lnTo>
                <a:lnTo>
                  <a:pt x="1234" y="7"/>
                </a:lnTo>
                <a:lnTo>
                  <a:pt x="1251" y="10"/>
                </a:lnTo>
                <a:lnTo>
                  <a:pt x="1269" y="10"/>
                </a:lnTo>
                <a:lnTo>
                  <a:pt x="1287" y="14"/>
                </a:lnTo>
                <a:lnTo>
                  <a:pt x="1305" y="14"/>
                </a:lnTo>
                <a:lnTo>
                  <a:pt x="1318" y="18"/>
                </a:lnTo>
                <a:lnTo>
                  <a:pt x="1336" y="18"/>
                </a:lnTo>
                <a:lnTo>
                  <a:pt x="1354" y="21"/>
                </a:lnTo>
                <a:lnTo>
                  <a:pt x="1372" y="25"/>
                </a:lnTo>
                <a:lnTo>
                  <a:pt x="1385" y="25"/>
                </a:lnTo>
                <a:lnTo>
                  <a:pt x="1403" y="29"/>
                </a:lnTo>
                <a:lnTo>
                  <a:pt x="1421" y="32"/>
                </a:lnTo>
                <a:lnTo>
                  <a:pt x="1439" y="36"/>
                </a:lnTo>
                <a:lnTo>
                  <a:pt x="1452" y="39"/>
                </a:lnTo>
                <a:lnTo>
                  <a:pt x="1470" y="39"/>
                </a:lnTo>
                <a:lnTo>
                  <a:pt x="1483" y="43"/>
                </a:lnTo>
                <a:lnTo>
                  <a:pt x="1501" y="47"/>
                </a:lnTo>
                <a:lnTo>
                  <a:pt x="1519" y="50"/>
                </a:lnTo>
                <a:lnTo>
                  <a:pt x="1532" y="54"/>
                </a:lnTo>
                <a:lnTo>
                  <a:pt x="1545" y="57"/>
                </a:lnTo>
                <a:lnTo>
                  <a:pt x="1563" y="61"/>
                </a:lnTo>
                <a:lnTo>
                  <a:pt x="1577" y="65"/>
                </a:lnTo>
                <a:lnTo>
                  <a:pt x="1594" y="68"/>
                </a:lnTo>
                <a:lnTo>
                  <a:pt x="1608" y="76"/>
                </a:lnTo>
                <a:lnTo>
                  <a:pt x="1621" y="79"/>
                </a:lnTo>
                <a:lnTo>
                  <a:pt x="1635" y="83"/>
                </a:lnTo>
                <a:lnTo>
                  <a:pt x="1652" y="86"/>
                </a:lnTo>
                <a:lnTo>
                  <a:pt x="1666" y="90"/>
                </a:lnTo>
                <a:lnTo>
                  <a:pt x="1679" y="97"/>
                </a:lnTo>
                <a:lnTo>
                  <a:pt x="1692" y="101"/>
                </a:lnTo>
                <a:lnTo>
                  <a:pt x="1706" y="105"/>
                </a:lnTo>
                <a:lnTo>
                  <a:pt x="1719" y="112"/>
                </a:lnTo>
                <a:lnTo>
                  <a:pt x="1733" y="115"/>
                </a:lnTo>
                <a:lnTo>
                  <a:pt x="1746" y="119"/>
                </a:lnTo>
                <a:lnTo>
                  <a:pt x="1755" y="126"/>
                </a:lnTo>
                <a:lnTo>
                  <a:pt x="1768" y="130"/>
                </a:lnTo>
                <a:lnTo>
                  <a:pt x="1782" y="137"/>
                </a:lnTo>
                <a:lnTo>
                  <a:pt x="1790" y="141"/>
                </a:lnTo>
                <a:lnTo>
                  <a:pt x="1804" y="148"/>
                </a:lnTo>
                <a:lnTo>
                  <a:pt x="1817" y="152"/>
                </a:lnTo>
                <a:lnTo>
                  <a:pt x="1826" y="159"/>
                </a:lnTo>
                <a:lnTo>
                  <a:pt x="1839" y="166"/>
                </a:lnTo>
                <a:lnTo>
                  <a:pt x="1848" y="170"/>
                </a:lnTo>
                <a:lnTo>
                  <a:pt x="1857" y="177"/>
                </a:lnTo>
                <a:lnTo>
                  <a:pt x="1871" y="181"/>
                </a:lnTo>
                <a:lnTo>
                  <a:pt x="1880" y="188"/>
                </a:lnTo>
                <a:lnTo>
                  <a:pt x="1888" y="195"/>
                </a:lnTo>
                <a:lnTo>
                  <a:pt x="1897" y="202"/>
                </a:lnTo>
                <a:lnTo>
                  <a:pt x="1906" y="206"/>
                </a:lnTo>
                <a:lnTo>
                  <a:pt x="1915" y="213"/>
                </a:lnTo>
                <a:lnTo>
                  <a:pt x="1924" y="220"/>
                </a:lnTo>
                <a:lnTo>
                  <a:pt x="1933" y="228"/>
                </a:lnTo>
                <a:lnTo>
                  <a:pt x="1942" y="231"/>
                </a:lnTo>
                <a:lnTo>
                  <a:pt x="1946" y="238"/>
                </a:lnTo>
                <a:lnTo>
                  <a:pt x="1955" y="246"/>
                </a:lnTo>
                <a:lnTo>
                  <a:pt x="1964" y="253"/>
                </a:lnTo>
                <a:lnTo>
                  <a:pt x="1969" y="260"/>
                </a:lnTo>
                <a:lnTo>
                  <a:pt x="1978" y="267"/>
                </a:lnTo>
                <a:lnTo>
                  <a:pt x="1982" y="271"/>
                </a:lnTo>
                <a:lnTo>
                  <a:pt x="1020" y="416"/>
                </a:lnTo>
                <a:lnTo>
                  <a:pt x="236" y="684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27920" y="3430440"/>
            <a:ext cx="225360" cy="782640"/>
          </a:xfrm>
          <a:custGeom>
            <a:avLst/>
            <a:gdLst/>
            <a:ahLst/>
            <a:rect l="l" t="t" r="r" b="b"/>
            <a:pathLst>
              <a:path w="138" h="416">
                <a:moveTo>
                  <a:pt x="138" y="0"/>
                </a:moveTo>
                <a:lnTo>
                  <a:pt x="138" y="7"/>
                </a:lnTo>
                <a:lnTo>
                  <a:pt x="138" y="14"/>
                </a:lnTo>
                <a:lnTo>
                  <a:pt x="134" y="21"/>
                </a:lnTo>
                <a:lnTo>
                  <a:pt x="134" y="29"/>
                </a:lnTo>
                <a:lnTo>
                  <a:pt x="134" y="36"/>
                </a:lnTo>
                <a:lnTo>
                  <a:pt x="129" y="43"/>
                </a:lnTo>
                <a:lnTo>
                  <a:pt x="129" y="50"/>
                </a:lnTo>
                <a:lnTo>
                  <a:pt x="129" y="58"/>
                </a:lnTo>
                <a:lnTo>
                  <a:pt x="125" y="65"/>
                </a:lnTo>
                <a:lnTo>
                  <a:pt x="120" y="72"/>
                </a:lnTo>
                <a:lnTo>
                  <a:pt x="120" y="79"/>
                </a:lnTo>
                <a:lnTo>
                  <a:pt x="116" y="86"/>
                </a:lnTo>
                <a:lnTo>
                  <a:pt x="112" y="94"/>
                </a:lnTo>
                <a:lnTo>
                  <a:pt x="107" y="101"/>
                </a:lnTo>
                <a:lnTo>
                  <a:pt x="103" y="108"/>
                </a:lnTo>
                <a:lnTo>
                  <a:pt x="98" y="115"/>
                </a:lnTo>
                <a:lnTo>
                  <a:pt x="94" y="123"/>
                </a:lnTo>
                <a:lnTo>
                  <a:pt x="89" y="130"/>
                </a:lnTo>
                <a:lnTo>
                  <a:pt x="80" y="137"/>
                </a:lnTo>
                <a:lnTo>
                  <a:pt x="76" y="141"/>
                </a:lnTo>
                <a:lnTo>
                  <a:pt x="71" y="148"/>
                </a:lnTo>
                <a:lnTo>
                  <a:pt x="63" y="155"/>
                </a:lnTo>
                <a:lnTo>
                  <a:pt x="58" y="162"/>
                </a:lnTo>
                <a:lnTo>
                  <a:pt x="49" y="170"/>
                </a:lnTo>
                <a:lnTo>
                  <a:pt x="40" y="177"/>
                </a:lnTo>
                <a:lnTo>
                  <a:pt x="36" y="181"/>
                </a:lnTo>
                <a:lnTo>
                  <a:pt x="27" y="188"/>
                </a:lnTo>
                <a:lnTo>
                  <a:pt x="18" y="195"/>
                </a:lnTo>
                <a:lnTo>
                  <a:pt x="9" y="202"/>
                </a:lnTo>
                <a:lnTo>
                  <a:pt x="0" y="210"/>
                </a:lnTo>
                <a:lnTo>
                  <a:pt x="0" y="416"/>
                </a:lnTo>
                <a:lnTo>
                  <a:pt x="9" y="409"/>
                </a:lnTo>
                <a:lnTo>
                  <a:pt x="18" y="401"/>
                </a:lnTo>
                <a:lnTo>
                  <a:pt x="27" y="394"/>
                </a:lnTo>
                <a:lnTo>
                  <a:pt x="36" y="387"/>
                </a:lnTo>
                <a:lnTo>
                  <a:pt x="40" y="383"/>
                </a:lnTo>
                <a:lnTo>
                  <a:pt x="49" y="376"/>
                </a:lnTo>
                <a:lnTo>
                  <a:pt x="58" y="369"/>
                </a:lnTo>
                <a:lnTo>
                  <a:pt x="63" y="362"/>
                </a:lnTo>
                <a:lnTo>
                  <a:pt x="71" y="354"/>
                </a:lnTo>
                <a:lnTo>
                  <a:pt x="76" y="347"/>
                </a:lnTo>
                <a:lnTo>
                  <a:pt x="80" y="343"/>
                </a:lnTo>
                <a:lnTo>
                  <a:pt x="89" y="336"/>
                </a:lnTo>
                <a:lnTo>
                  <a:pt x="94" y="329"/>
                </a:lnTo>
                <a:lnTo>
                  <a:pt x="98" y="322"/>
                </a:lnTo>
                <a:lnTo>
                  <a:pt x="103" y="315"/>
                </a:lnTo>
                <a:lnTo>
                  <a:pt x="107" y="307"/>
                </a:lnTo>
                <a:lnTo>
                  <a:pt x="112" y="300"/>
                </a:lnTo>
                <a:lnTo>
                  <a:pt x="116" y="293"/>
                </a:lnTo>
                <a:lnTo>
                  <a:pt x="120" y="286"/>
                </a:lnTo>
                <a:lnTo>
                  <a:pt x="120" y="278"/>
                </a:lnTo>
                <a:lnTo>
                  <a:pt x="125" y="271"/>
                </a:lnTo>
                <a:lnTo>
                  <a:pt x="129" y="264"/>
                </a:lnTo>
                <a:lnTo>
                  <a:pt x="129" y="257"/>
                </a:lnTo>
                <a:lnTo>
                  <a:pt x="129" y="249"/>
                </a:lnTo>
                <a:lnTo>
                  <a:pt x="134" y="242"/>
                </a:lnTo>
                <a:lnTo>
                  <a:pt x="134" y="235"/>
                </a:lnTo>
                <a:lnTo>
                  <a:pt x="134" y="228"/>
                </a:lnTo>
                <a:lnTo>
                  <a:pt x="138" y="220"/>
                </a:lnTo>
                <a:lnTo>
                  <a:pt x="138" y="213"/>
                </a:lnTo>
                <a:lnTo>
                  <a:pt x="138" y="206"/>
                </a:lnTo>
                <a:lnTo>
                  <a:pt x="138" y="0"/>
                </a:lnTo>
                <a:close/>
              </a:path>
            </a:pathLst>
          </a:custGeom>
          <a:solidFill>
            <a:srgbClr val="1a1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92600" y="3430440"/>
            <a:ext cx="1435320" cy="776520"/>
          </a:xfrm>
          <a:custGeom>
            <a:avLst/>
            <a:gdLst/>
            <a:ahLst/>
            <a:rect l="l" t="t" r="r" b="b"/>
            <a:pathLst>
              <a:path w="886" h="413">
                <a:moveTo>
                  <a:pt x="0" y="0"/>
                </a:moveTo>
                <a:lnTo>
                  <a:pt x="886" y="207"/>
                </a:lnTo>
                <a:lnTo>
                  <a:pt x="886" y="413"/>
                </a:lnTo>
                <a:lnTo>
                  <a:pt x="0" y="207"/>
                </a:lnTo>
                <a:lnTo>
                  <a:pt x="0" y="0"/>
                </a:lnTo>
                <a:close/>
              </a:path>
            </a:pathLst>
          </a:custGeom>
          <a:solidFill>
            <a:srgbClr val="1a1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92600" y="3162240"/>
            <a:ext cx="1660680" cy="658800"/>
          </a:xfrm>
          <a:custGeom>
            <a:avLst/>
            <a:gdLst/>
            <a:ahLst/>
            <a:rect l="l" t="t" r="r" b="b"/>
            <a:pathLst>
              <a:path w="1024" h="352">
                <a:moveTo>
                  <a:pt x="962" y="0"/>
                </a:moveTo>
                <a:lnTo>
                  <a:pt x="966" y="8"/>
                </a:lnTo>
                <a:lnTo>
                  <a:pt x="975" y="15"/>
                </a:lnTo>
                <a:lnTo>
                  <a:pt x="980" y="22"/>
                </a:lnTo>
                <a:lnTo>
                  <a:pt x="984" y="29"/>
                </a:lnTo>
                <a:lnTo>
                  <a:pt x="989" y="37"/>
                </a:lnTo>
                <a:lnTo>
                  <a:pt x="993" y="44"/>
                </a:lnTo>
                <a:lnTo>
                  <a:pt x="998" y="51"/>
                </a:lnTo>
                <a:lnTo>
                  <a:pt x="1002" y="58"/>
                </a:lnTo>
                <a:lnTo>
                  <a:pt x="1006" y="66"/>
                </a:lnTo>
                <a:lnTo>
                  <a:pt x="1006" y="73"/>
                </a:lnTo>
                <a:lnTo>
                  <a:pt x="1011" y="80"/>
                </a:lnTo>
                <a:lnTo>
                  <a:pt x="1015" y="87"/>
                </a:lnTo>
                <a:lnTo>
                  <a:pt x="1015" y="95"/>
                </a:lnTo>
                <a:lnTo>
                  <a:pt x="1015" y="102"/>
                </a:lnTo>
                <a:lnTo>
                  <a:pt x="1020" y="109"/>
                </a:lnTo>
                <a:lnTo>
                  <a:pt x="1020" y="116"/>
                </a:lnTo>
                <a:lnTo>
                  <a:pt x="1020" y="123"/>
                </a:lnTo>
                <a:lnTo>
                  <a:pt x="1024" y="131"/>
                </a:lnTo>
                <a:lnTo>
                  <a:pt x="1024" y="138"/>
                </a:lnTo>
                <a:lnTo>
                  <a:pt x="1024" y="145"/>
                </a:lnTo>
                <a:lnTo>
                  <a:pt x="1024" y="152"/>
                </a:lnTo>
                <a:lnTo>
                  <a:pt x="1024" y="160"/>
                </a:lnTo>
                <a:lnTo>
                  <a:pt x="1020" y="167"/>
                </a:lnTo>
                <a:lnTo>
                  <a:pt x="1020" y="174"/>
                </a:lnTo>
                <a:lnTo>
                  <a:pt x="1020" y="181"/>
                </a:lnTo>
                <a:lnTo>
                  <a:pt x="1020" y="181"/>
                </a:lnTo>
                <a:lnTo>
                  <a:pt x="1015" y="189"/>
                </a:lnTo>
                <a:lnTo>
                  <a:pt x="1015" y="196"/>
                </a:lnTo>
                <a:lnTo>
                  <a:pt x="1015" y="203"/>
                </a:lnTo>
                <a:lnTo>
                  <a:pt x="1011" y="210"/>
                </a:lnTo>
                <a:lnTo>
                  <a:pt x="1006" y="218"/>
                </a:lnTo>
                <a:lnTo>
                  <a:pt x="1006" y="225"/>
                </a:lnTo>
                <a:lnTo>
                  <a:pt x="1002" y="232"/>
                </a:lnTo>
                <a:lnTo>
                  <a:pt x="998" y="239"/>
                </a:lnTo>
                <a:lnTo>
                  <a:pt x="993" y="247"/>
                </a:lnTo>
                <a:lnTo>
                  <a:pt x="989" y="254"/>
                </a:lnTo>
                <a:lnTo>
                  <a:pt x="984" y="257"/>
                </a:lnTo>
                <a:lnTo>
                  <a:pt x="980" y="265"/>
                </a:lnTo>
                <a:lnTo>
                  <a:pt x="975" y="272"/>
                </a:lnTo>
                <a:lnTo>
                  <a:pt x="966" y="279"/>
                </a:lnTo>
                <a:lnTo>
                  <a:pt x="962" y="286"/>
                </a:lnTo>
                <a:lnTo>
                  <a:pt x="957" y="294"/>
                </a:lnTo>
                <a:lnTo>
                  <a:pt x="949" y="301"/>
                </a:lnTo>
                <a:lnTo>
                  <a:pt x="944" y="308"/>
                </a:lnTo>
                <a:lnTo>
                  <a:pt x="935" y="315"/>
                </a:lnTo>
                <a:lnTo>
                  <a:pt x="926" y="319"/>
                </a:lnTo>
                <a:lnTo>
                  <a:pt x="922" y="326"/>
                </a:lnTo>
                <a:lnTo>
                  <a:pt x="913" y="333"/>
                </a:lnTo>
                <a:lnTo>
                  <a:pt x="904" y="341"/>
                </a:lnTo>
                <a:lnTo>
                  <a:pt x="895" y="348"/>
                </a:lnTo>
                <a:lnTo>
                  <a:pt x="886" y="352"/>
                </a:lnTo>
                <a:lnTo>
                  <a:pt x="0" y="145"/>
                </a:lnTo>
                <a:lnTo>
                  <a:pt x="962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89400" y="3973680"/>
            <a:ext cx="760680" cy="707760"/>
          </a:xfrm>
          <a:custGeom>
            <a:avLst/>
            <a:gdLst/>
            <a:ahLst/>
            <a:rect l="l" t="t" r="r" b="b"/>
            <a:pathLst>
              <a:path w="468" h="377">
                <a:moveTo>
                  <a:pt x="468" y="0"/>
                </a:moveTo>
                <a:lnTo>
                  <a:pt x="459" y="4"/>
                </a:lnTo>
                <a:lnTo>
                  <a:pt x="450" y="11"/>
                </a:lnTo>
                <a:lnTo>
                  <a:pt x="441" y="18"/>
                </a:lnTo>
                <a:lnTo>
                  <a:pt x="432" y="22"/>
                </a:lnTo>
                <a:lnTo>
                  <a:pt x="419" y="29"/>
                </a:lnTo>
                <a:lnTo>
                  <a:pt x="410" y="36"/>
                </a:lnTo>
                <a:lnTo>
                  <a:pt x="401" y="40"/>
                </a:lnTo>
                <a:lnTo>
                  <a:pt x="388" y="47"/>
                </a:lnTo>
                <a:lnTo>
                  <a:pt x="379" y="51"/>
                </a:lnTo>
                <a:lnTo>
                  <a:pt x="365" y="58"/>
                </a:lnTo>
                <a:lnTo>
                  <a:pt x="352" y="62"/>
                </a:lnTo>
                <a:lnTo>
                  <a:pt x="343" y="69"/>
                </a:lnTo>
                <a:lnTo>
                  <a:pt x="330" y="72"/>
                </a:lnTo>
                <a:lnTo>
                  <a:pt x="316" y="80"/>
                </a:lnTo>
                <a:lnTo>
                  <a:pt x="307" y="83"/>
                </a:lnTo>
                <a:lnTo>
                  <a:pt x="294" y="91"/>
                </a:lnTo>
                <a:lnTo>
                  <a:pt x="281" y="94"/>
                </a:lnTo>
                <a:lnTo>
                  <a:pt x="267" y="98"/>
                </a:lnTo>
                <a:lnTo>
                  <a:pt x="254" y="105"/>
                </a:lnTo>
                <a:lnTo>
                  <a:pt x="241" y="109"/>
                </a:lnTo>
                <a:lnTo>
                  <a:pt x="227" y="112"/>
                </a:lnTo>
                <a:lnTo>
                  <a:pt x="214" y="116"/>
                </a:lnTo>
                <a:lnTo>
                  <a:pt x="196" y="123"/>
                </a:lnTo>
                <a:lnTo>
                  <a:pt x="183" y="127"/>
                </a:lnTo>
                <a:lnTo>
                  <a:pt x="169" y="130"/>
                </a:lnTo>
                <a:lnTo>
                  <a:pt x="156" y="134"/>
                </a:lnTo>
                <a:lnTo>
                  <a:pt x="138" y="138"/>
                </a:lnTo>
                <a:lnTo>
                  <a:pt x="125" y="141"/>
                </a:lnTo>
                <a:lnTo>
                  <a:pt x="107" y="145"/>
                </a:lnTo>
                <a:lnTo>
                  <a:pt x="94" y="148"/>
                </a:lnTo>
                <a:lnTo>
                  <a:pt x="80" y="152"/>
                </a:lnTo>
                <a:lnTo>
                  <a:pt x="62" y="156"/>
                </a:lnTo>
                <a:lnTo>
                  <a:pt x="45" y="159"/>
                </a:lnTo>
                <a:lnTo>
                  <a:pt x="31" y="163"/>
                </a:lnTo>
                <a:lnTo>
                  <a:pt x="13" y="167"/>
                </a:lnTo>
                <a:lnTo>
                  <a:pt x="0" y="170"/>
                </a:lnTo>
                <a:lnTo>
                  <a:pt x="0" y="377"/>
                </a:lnTo>
                <a:lnTo>
                  <a:pt x="13" y="373"/>
                </a:lnTo>
                <a:lnTo>
                  <a:pt x="31" y="369"/>
                </a:lnTo>
                <a:lnTo>
                  <a:pt x="45" y="366"/>
                </a:lnTo>
                <a:lnTo>
                  <a:pt x="62" y="362"/>
                </a:lnTo>
                <a:lnTo>
                  <a:pt x="80" y="358"/>
                </a:lnTo>
                <a:lnTo>
                  <a:pt x="94" y="355"/>
                </a:lnTo>
                <a:lnTo>
                  <a:pt x="107" y="351"/>
                </a:lnTo>
                <a:lnTo>
                  <a:pt x="125" y="348"/>
                </a:lnTo>
                <a:lnTo>
                  <a:pt x="138" y="344"/>
                </a:lnTo>
                <a:lnTo>
                  <a:pt x="156" y="340"/>
                </a:lnTo>
                <a:lnTo>
                  <a:pt x="169" y="337"/>
                </a:lnTo>
                <a:lnTo>
                  <a:pt x="183" y="333"/>
                </a:lnTo>
                <a:lnTo>
                  <a:pt x="196" y="329"/>
                </a:lnTo>
                <a:lnTo>
                  <a:pt x="214" y="322"/>
                </a:lnTo>
                <a:lnTo>
                  <a:pt x="227" y="319"/>
                </a:lnTo>
                <a:lnTo>
                  <a:pt x="241" y="315"/>
                </a:lnTo>
                <a:lnTo>
                  <a:pt x="254" y="311"/>
                </a:lnTo>
                <a:lnTo>
                  <a:pt x="267" y="304"/>
                </a:lnTo>
                <a:lnTo>
                  <a:pt x="281" y="301"/>
                </a:lnTo>
                <a:lnTo>
                  <a:pt x="294" y="297"/>
                </a:lnTo>
                <a:lnTo>
                  <a:pt x="307" y="290"/>
                </a:lnTo>
                <a:lnTo>
                  <a:pt x="316" y="286"/>
                </a:lnTo>
                <a:lnTo>
                  <a:pt x="330" y="279"/>
                </a:lnTo>
                <a:lnTo>
                  <a:pt x="343" y="275"/>
                </a:lnTo>
                <a:lnTo>
                  <a:pt x="352" y="268"/>
                </a:lnTo>
                <a:lnTo>
                  <a:pt x="365" y="264"/>
                </a:lnTo>
                <a:lnTo>
                  <a:pt x="379" y="257"/>
                </a:lnTo>
                <a:lnTo>
                  <a:pt x="388" y="253"/>
                </a:lnTo>
                <a:lnTo>
                  <a:pt x="401" y="246"/>
                </a:lnTo>
                <a:lnTo>
                  <a:pt x="410" y="243"/>
                </a:lnTo>
                <a:lnTo>
                  <a:pt x="419" y="235"/>
                </a:lnTo>
                <a:lnTo>
                  <a:pt x="432" y="228"/>
                </a:lnTo>
                <a:lnTo>
                  <a:pt x="441" y="224"/>
                </a:lnTo>
                <a:lnTo>
                  <a:pt x="450" y="217"/>
                </a:lnTo>
                <a:lnTo>
                  <a:pt x="459" y="210"/>
                </a:lnTo>
                <a:lnTo>
                  <a:pt x="468" y="206"/>
                </a:lnTo>
                <a:lnTo>
                  <a:pt x="468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10080" y="3610080"/>
            <a:ext cx="673200" cy="1101600"/>
          </a:xfrm>
          <a:custGeom>
            <a:avLst/>
            <a:gdLst/>
            <a:ahLst/>
            <a:rect l="l" t="t" r="r" b="b"/>
            <a:pathLst>
              <a:path w="415" h="586">
                <a:moveTo>
                  <a:pt x="0" y="0"/>
                </a:moveTo>
                <a:lnTo>
                  <a:pt x="415" y="380"/>
                </a:lnTo>
                <a:lnTo>
                  <a:pt x="415" y="586"/>
                </a:lnTo>
                <a:lnTo>
                  <a:pt x="0" y="206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10080" y="3610080"/>
            <a:ext cx="1440000" cy="714240"/>
          </a:xfrm>
          <a:custGeom>
            <a:avLst/>
            <a:gdLst/>
            <a:ahLst/>
            <a:rect l="l" t="t" r="r" b="b"/>
            <a:pathLst>
              <a:path w="887" h="380">
                <a:moveTo>
                  <a:pt x="887" y="206"/>
                </a:moveTo>
                <a:lnTo>
                  <a:pt x="878" y="213"/>
                </a:lnTo>
                <a:lnTo>
                  <a:pt x="869" y="221"/>
                </a:lnTo>
                <a:lnTo>
                  <a:pt x="860" y="224"/>
                </a:lnTo>
                <a:lnTo>
                  <a:pt x="851" y="231"/>
                </a:lnTo>
                <a:lnTo>
                  <a:pt x="838" y="239"/>
                </a:lnTo>
                <a:lnTo>
                  <a:pt x="829" y="242"/>
                </a:lnTo>
                <a:lnTo>
                  <a:pt x="820" y="249"/>
                </a:lnTo>
                <a:lnTo>
                  <a:pt x="807" y="257"/>
                </a:lnTo>
                <a:lnTo>
                  <a:pt x="798" y="260"/>
                </a:lnTo>
                <a:lnTo>
                  <a:pt x="784" y="268"/>
                </a:lnTo>
                <a:lnTo>
                  <a:pt x="771" y="271"/>
                </a:lnTo>
                <a:lnTo>
                  <a:pt x="762" y="278"/>
                </a:lnTo>
                <a:lnTo>
                  <a:pt x="749" y="282"/>
                </a:lnTo>
                <a:lnTo>
                  <a:pt x="735" y="289"/>
                </a:lnTo>
                <a:lnTo>
                  <a:pt x="726" y="293"/>
                </a:lnTo>
                <a:lnTo>
                  <a:pt x="713" y="297"/>
                </a:lnTo>
                <a:lnTo>
                  <a:pt x="700" y="304"/>
                </a:lnTo>
                <a:lnTo>
                  <a:pt x="686" y="307"/>
                </a:lnTo>
                <a:lnTo>
                  <a:pt x="673" y="315"/>
                </a:lnTo>
                <a:lnTo>
                  <a:pt x="660" y="318"/>
                </a:lnTo>
                <a:lnTo>
                  <a:pt x="646" y="322"/>
                </a:lnTo>
                <a:lnTo>
                  <a:pt x="633" y="326"/>
                </a:lnTo>
                <a:lnTo>
                  <a:pt x="615" y="333"/>
                </a:lnTo>
                <a:lnTo>
                  <a:pt x="602" y="336"/>
                </a:lnTo>
                <a:lnTo>
                  <a:pt x="588" y="340"/>
                </a:lnTo>
                <a:lnTo>
                  <a:pt x="575" y="344"/>
                </a:lnTo>
                <a:lnTo>
                  <a:pt x="557" y="347"/>
                </a:lnTo>
                <a:lnTo>
                  <a:pt x="544" y="351"/>
                </a:lnTo>
                <a:lnTo>
                  <a:pt x="526" y="354"/>
                </a:lnTo>
                <a:lnTo>
                  <a:pt x="513" y="358"/>
                </a:lnTo>
                <a:lnTo>
                  <a:pt x="499" y="362"/>
                </a:lnTo>
                <a:lnTo>
                  <a:pt x="481" y="365"/>
                </a:lnTo>
                <a:lnTo>
                  <a:pt x="464" y="369"/>
                </a:lnTo>
                <a:lnTo>
                  <a:pt x="450" y="373"/>
                </a:lnTo>
                <a:lnTo>
                  <a:pt x="432" y="376"/>
                </a:lnTo>
                <a:lnTo>
                  <a:pt x="419" y="380"/>
                </a:lnTo>
                <a:lnTo>
                  <a:pt x="0" y="0"/>
                </a:lnTo>
                <a:lnTo>
                  <a:pt x="887" y="2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8840" y="4152960"/>
            <a:ext cx="1042920" cy="658800"/>
          </a:xfrm>
          <a:custGeom>
            <a:avLst/>
            <a:gdLst/>
            <a:ahLst/>
            <a:rect l="l" t="t" r="r" b="b"/>
            <a:pathLst>
              <a:path w="642" h="351">
                <a:moveTo>
                  <a:pt x="642" y="145"/>
                </a:moveTo>
                <a:lnTo>
                  <a:pt x="624" y="141"/>
                </a:lnTo>
                <a:lnTo>
                  <a:pt x="606" y="141"/>
                </a:lnTo>
                <a:lnTo>
                  <a:pt x="588" y="141"/>
                </a:lnTo>
                <a:lnTo>
                  <a:pt x="575" y="138"/>
                </a:lnTo>
                <a:lnTo>
                  <a:pt x="557" y="138"/>
                </a:lnTo>
                <a:lnTo>
                  <a:pt x="539" y="134"/>
                </a:lnTo>
                <a:lnTo>
                  <a:pt x="521" y="134"/>
                </a:lnTo>
                <a:lnTo>
                  <a:pt x="504" y="130"/>
                </a:lnTo>
                <a:lnTo>
                  <a:pt x="486" y="130"/>
                </a:lnTo>
                <a:lnTo>
                  <a:pt x="468" y="127"/>
                </a:lnTo>
                <a:lnTo>
                  <a:pt x="455" y="127"/>
                </a:lnTo>
                <a:lnTo>
                  <a:pt x="437" y="123"/>
                </a:lnTo>
                <a:lnTo>
                  <a:pt x="419" y="120"/>
                </a:lnTo>
                <a:lnTo>
                  <a:pt x="401" y="116"/>
                </a:lnTo>
                <a:lnTo>
                  <a:pt x="388" y="116"/>
                </a:lnTo>
                <a:lnTo>
                  <a:pt x="370" y="112"/>
                </a:lnTo>
                <a:lnTo>
                  <a:pt x="352" y="109"/>
                </a:lnTo>
                <a:lnTo>
                  <a:pt x="339" y="105"/>
                </a:lnTo>
                <a:lnTo>
                  <a:pt x="321" y="101"/>
                </a:lnTo>
                <a:lnTo>
                  <a:pt x="308" y="98"/>
                </a:lnTo>
                <a:lnTo>
                  <a:pt x="290" y="94"/>
                </a:lnTo>
                <a:lnTo>
                  <a:pt x="272" y="91"/>
                </a:lnTo>
                <a:lnTo>
                  <a:pt x="259" y="87"/>
                </a:lnTo>
                <a:lnTo>
                  <a:pt x="245" y="83"/>
                </a:lnTo>
                <a:lnTo>
                  <a:pt x="227" y="80"/>
                </a:lnTo>
                <a:lnTo>
                  <a:pt x="214" y="76"/>
                </a:lnTo>
                <a:lnTo>
                  <a:pt x="201" y="72"/>
                </a:lnTo>
                <a:lnTo>
                  <a:pt x="183" y="69"/>
                </a:lnTo>
                <a:lnTo>
                  <a:pt x="169" y="65"/>
                </a:lnTo>
                <a:lnTo>
                  <a:pt x="156" y="58"/>
                </a:lnTo>
                <a:lnTo>
                  <a:pt x="143" y="54"/>
                </a:lnTo>
                <a:lnTo>
                  <a:pt x="129" y="51"/>
                </a:lnTo>
                <a:lnTo>
                  <a:pt x="116" y="47"/>
                </a:lnTo>
                <a:lnTo>
                  <a:pt x="103" y="40"/>
                </a:lnTo>
                <a:lnTo>
                  <a:pt x="89" y="36"/>
                </a:lnTo>
                <a:lnTo>
                  <a:pt x="76" y="33"/>
                </a:lnTo>
                <a:lnTo>
                  <a:pt x="63" y="25"/>
                </a:lnTo>
                <a:lnTo>
                  <a:pt x="49" y="22"/>
                </a:lnTo>
                <a:lnTo>
                  <a:pt x="36" y="15"/>
                </a:lnTo>
                <a:lnTo>
                  <a:pt x="27" y="11"/>
                </a:lnTo>
                <a:lnTo>
                  <a:pt x="14" y="4"/>
                </a:lnTo>
                <a:lnTo>
                  <a:pt x="0" y="0"/>
                </a:lnTo>
                <a:lnTo>
                  <a:pt x="0" y="206"/>
                </a:lnTo>
                <a:lnTo>
                  <a:pt x="14" y="210"/>
                </a:lnTo>
                <a:lnTo>
                  <a:pt x="27" y="217"/>
                </a:lnTo>
                <a:lnTo>
                  <a:pt x="36" y="221"/>
                </a:lnTo>
                <a:lnTo>
                  <a:pt x="49" y="228"/>
                </a:lnTo>
                <a:lnTo>
                  <a:pt x="63" y="232"/>
                </a:lnTo>
                <a:lnTo>
                  <a:pt x="76" y="239"/>
                </a:lnTo>
                <a:lnTo>
                  <a:pt x="89" y="243"/>
                </a:lnTo>
                <a:lnTo>
                  <a:pt x="103" y="246"/>
                </a:lnTo>
                <a:lnTo>
                  <a:pt x="116" y="253"/>
                </a:lnTo>
                <a:lnTo>
                  <a:pt x="129" y="257"/>
                </a:lnTo>
                <a:lnTo>
                  <a:pt x="143" y="261"/>
                </a:lnTo>
                <a:lnTo>
                  <a:pt x="156" y="264"/>
                </a:lnTo>
                <a:lnTo>
                  <a:pt x="169" y="272"/>
                </a:lnTo>
                <a:lnTo>
                  <a:pt x="183" y="275"/>
                </a:lnTo>
                <a:lnTo>
                  <a:pt x="201" y="279"/>
                </a:lnTo>
                <a:lnTo>
                  <a:pt x="214" y="282"/>
                </a:lnTo>
                <a:lnTo>
                  <a:pt x="227" y="286"/>
                </a:lnTo>
                <a:lnTo>
                  <a:pt x="245" y="290"/>
                </a:lnTo>
                <a:lnTo>
                  <a:pt x="259" y="293"/>
                </a:lnTo>
                <a:lnTo>
                  <a:pt x="272" y="297"/>
                </a:lnTo>
                <a:lnTo>
                  <a:pt x="290" y="301"/>
                </a:lnTo>
                <a:lnTo>
                  <a:pt x="308" y="304"/>
                </a:lnTo>
                <a:lnTo>
                  <a:pt x="321" y="308"/>
                </a:lnTo>
                <a:lnTo>
                  <a:pt x="339" y="311"/>
                </a:lnTo>
                <a:lnTo>
                  <a:pt x="352" y="315"/>
                </a:lnTo>
                <a:lnTo>
                  <a:pt x="370" y="319"/>
                </a:lnTo>
                <a:lnTo>
                  <a:pt x="388" y="322"/>
                </a:lnTo>
                <a:lnTo>
                  <a:pt x="401" y="322"/>
                </a:lnTo>
                <a:lnTo>
                  <a:pt x="419" y="326"/>
                </a:lnTo>
                <a:lnTo>
                  <a:pt x="437" y="329"/>
                </a:lnTo>
                <a:lnTo>
                  <a:pt x="455" y="333"/>
                </a:lnTo>
                <a:lnTo>
                  <a:pt x="468" y="333"/>
                </a:lnTo>
                <a:lnTo>
                  <a:pt x="486" y="337"/>
                </a:lnTo>
                <a:lnTo>
                  <a:pt x="504" y="337"/>
                </a:lnTo>
                <a:lnTo>
                  <a:pt x="521" y="340"/>
                </a:lnTo>
                <a:lnTo>
                  <a:pt x="539" y="340"/>
                </a:lnTo>
                <a:lnTo>
                  <a:pt x="557" y="344"/>
                </a:lnTo>
                <a:lnTo>
                  <a:pt x="575" y="344"/>
                </a:lnTo>
                <a:lnTo>
                  <a:pt x="588" y="348"/>
                </a:lnTo>
                <a:lnTo>
                  <a:pt x="606" y="348"/>
                </a:lnTo>
                <a:lnTo>
                  <a:pt x="624" y="348"/>
                </a:lnTo>
                <a:lnTo>
                  <a:pt x="642" y="351"/>
                </a:lnTo>
                <a:lnTo>
                  <a:pt x="642" y="14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41760" y="3701880"/>
            <a:ext cx="230040" cy="1162080"/>
          </a:xfrm>
          <a:custGeom>
            <a:avLst/>
            <a:gdLst/>
            <a:ahLst/>
            <a:rect l="l" t="t" r="r" b="b"/>
            <a:pathLst>
              <a:path w="142" h="619">
                <a:moveTo>
                  <a:pt x="142" y="0"/>
                </a:moveTo>
                <a:lnTo>
                  <a:pt x="0" y="412"/>
                </a:lnTo>
                <a:lnTo>
                  <a:pt x="0" y="619"/>
                </a:lnTo>
                <a:lnTo>
                  <a:pt x="142" y="206"/>
                </a:lnTo>
                <a:lnTo>
                  <a:pt x="142" y="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8840" y="3701880"/>
            <a:ext cx="1272960" cy="773280"/>
          </a:xfrm>
          <a:custGeom>
            <a:avLst/>
            <a:gdLst/>
            <a:ahLst/>
            <a:rect l="l" t="t" r="r" b="b"/>
            <a:pathLst>
              <a:path w="784" h="412">
                <a:moveTo>
                  <a:pt x="642" y="412"/>
                </a:moveTo>
                <a:lnTo>
                  <a:pt x="624" y="409"/>
                </a:lnTo>
                <a:lnTo>
                  <a:pt x="606" y="409"/>
                </a:lnTo>
                <a:lnTo>
                  <a:pt x="588" y="409"/>
                </a:lnTo>
                <a:lnTo>
                  <a:pt x="575" y="405"/>
                </a:lnTo>
                <a:lnTo>
                  <a:pt x="557" y="405"/>
                </a:lnTo>
                <a:lnTo>
                  <a:pt x="539" y="402"/>
                </a:lnTo>
                <a:lnTo>
                  <a:pt x="521" y="402"/>
                </a:lnTo>
                <a:lnTo>
                  <a:pt x="504" y="398"/>
                </a:lnTo>
                <a:lnTo>
                  <a:pt x="486" y="398"/>
                </a:lnTo>
                <a:lnTo>
                  <a:pt x="468" y="394"/>
                </a:lnTo>
                <a:lnTo>
                  <a:pt x="455" y="391"/>
                </a:lnTo>
                <a:lnTo>
                  <a:pt x="437" y="391"/>
                </a:lnTo>
                <a:lnTo>
                  <a:pt x="419" y="387"/>
                </a:lnTo>
                <a:lnTo>
                  <a:pt x="401" y="384"/>
                </a:lnTo>
                <a:lnTo>
                  <a:pt x="388" y="384"/>
                </a:lnTo>
                <a:lnTo>
                  <a:pt x="370" y="380"/>
                </a:lnTo>
                <a:lnTo>
                  <a:pt x="352" y="376"/>
                </a:lnTo>
                <a:lnTo>
                  <a:pt x="339" y="373"/>
                </a:lnTo>
                <a:lnTo>
                  <a:pt x="321" y="369"/>
                </a:lnTo>
                <a:lnTo>
                  <a:pt x="308" y="365"/>
                </a:lnTo>
                <a:lnTo>
                  <a:pt x="290" y="362"/>
                </a:lnTo>
                <a:lnTo>
                  <a:pt x="272" y="358"/>
                </a:lnTo>
                <a:lnTo>
                  <a:pt x="259" y="355"/>
                </a:lnTo>
                <a:lnTo>
                  <a:pt x="245" y="351"/>
                </a:lnTo>
                <a:lnTo>
                  <a:pt x="227" y="347"/>
                </a:lnTo>
                <a:lnTo>
                  <a:pt x="214" y="344"/>
                </a:lnTo>
                <a:lnTo>
                  <a:pt x="201" y="340"/>
                </a:lnTo>
                <a:lnTo>
                  <a:pt x="183" y="336"/>
                </a:lnTo>
                <a:lnTo>
                  <a:pt x="169" y="333"/>
                </a:lnTo>
                <a:lnTo>
                  <a:pt x="156" y="326"/>
                </a:lnTo>
                <a:lnTo>
                  <a:pt x="143" y="322"/>
                </a:lnTo>
                <a:lnTo>
                  <a:pt x="129" y="318"/>
                </a:lnTo>
                <a:lnTo>
                  <a:pt x="116" y="315"/>
                </a:lnTo>
                <a:lnTo>
                  <a:pt x="103" y="308"/>
                </a:lnTo>
                <a:lnTo>
                  <a:pt x="89" y="304"/>
                </a:lnTo>
                <a:lnTo>
                  <a:pt x="76" y="297"/>
                </a:lnTo>
                <a:lnTo>
                  <a:pt x="63" y="293"/>
                </a:lnTo>
                <a:lnTo>
                  <a:pt x="49" y="289"/>
                </a:lnTo>
                <a:lnTo>
                  <a:pt x="36" y="282"/>
                </a:lnTo>
                <a:lnTo>
                  <a:pt x="27" y="279"/>
                </a:lnTo>
                <a:lnTo>
                  <a:pt x="14" y="271"/>
                </a:lnTo>
                <a:lnTo>
                  <a:pt x="0" y="268"/>
                </a:lnTo>
                <a:lnTo>
                  <a:pt x="784" y="0"/>
                </a:lnTo>
                <a:lnTo>
                  <a:pt x="642" y="4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87720" y="4332240"/>
            <a:ext cx="912960" cy="457200"/>
          </a:xfrm>
          <a:custGeom>
            <a:avLst/>
            <a:gdLst/>
            <a:ahLst/>
            <a:rect l="l" t="t" r="r" b="b"/>
            <a:pathLst>
              <a:path w="561" h="243">
                <a:moveTo>
                  <a:pt x="561" y="0"/>
                </a:moveTo>
                <a:lnTo>
                  <a:pt x="543" y="4"/>
                </a:lnTo>
                <a:lnTo>
                  <a:pt x="525" y="4"/>
                </a:lnTo>
                <a:lnTo>
                  <a:pt x="507" y="8"/>
                </a:lnTo>
                <a:lnTo>
                  <a:pt x="494" y="11"/>
                </a:lnTo>
                <a:lnTo>
                  <a:pt x="476" y="15"/>
                </a:lnTo>
                <a:lnTo>
                  <a:pt x="458" y="15"/>
                </a:lnTo>
                <a:lnTo>
                  <a:pt x="441" y="18"/>
                </a:lnTo>
                <a:lnTo>
                  <a:pt x="427" y="18"/>
                </a:lnTo>
                <a:lnTo>
                  <a:pt x="409" y="22"/>
                </a:lnTo>
                <a:lnTo>
                  <a:pt x="392" y="22"/>
                </a:lnTo>
                <a:lnTo>
                  <a:pt x="374" y="26"/>
                </a:lnTo>
                <a:lnTo>
                  <a:pt x="356" y="26"/>
                </a:lnTo>
                <a:lnTo>
                  <a:pt x="338" y="29"/>
                </a:lnTo>
                <a:lnTo>
                  <a:pt x="320" y="29"/>
                </a:lnTo>
                <a:lnTo>
                  <a:pt x="302" y="29"/>
                </a:lnTo>
                <a:lnTo>
                  <a:pt x="285" y="33"/>
                </a:lnTo>
                <a:lnTo>
                  <a:pt x="285" y="33"/>
                </a:lnTo>
                <a:lnTo>
                  <a:pt x="267" y="33"/>
                </a:lnTo>
                <a:lnTo>
                  <a:pt x="249" y="33"/>
                </a:lnTo>
                <a:lnTo>
                  <a:pt x="231" y="33"/>
                </a:lnTo>
                <a:lnTo>
                  <a:pt x="213" y="33"/>
                </a:lnTo>
                <a:lnTo>
                  <a:pt x="196" y="37"/>
                </a:lnTo>
                <a:lnTo>
                  <a:pt x="178" y="37"/>
                </a:lnTo>
                <a:lnTo>
                  <a:pt x="160" y="37"/>
                </a:lnTo>
                <a:lnTo>
                  <a:pt x="142" y="37"/>
                </a:lnTo>
                <a:lnTo>
                  <a:pt x="124" y="37"/>
                </a:lnTo>
                <a:lnTo>
                  <a:pt x="106" y="37"/>
                </a:lnTo>
                <a:lnTo>
                  <a:pt x="89" y="37"/>
                </a:lnTo>
                <a:lnTo>
                  <a:pt x="71" y="33"/>
                </a:lnTo>
                <a:lnTo>
                  <a:pt x="53" y="33"/>
                </a:lnTo>
                <a:lnTo>
                  <a:pt x="35" y="33"/>
                </a:lnTo>
                <a:lnTo>
                  <a:pt x="17" y="33"/>
                </a:lnTo>
                <a:lnTo>
                  <a:pt x="0" y="33"/>
                </a:lnTo>
                <a:lnTo>
                  <a:pt x="0" y="239"/>
                </a:lnTo>
                <a:lnTo>
                  <a:pt x="17" y="239"/>
                </a:lnTo>
                <a:lnTo>
                  <a:pt x="35" y="239"/>
                </a:lnTo>
                <a:lnTo>
                  <a:pt x="53" y="239"/>
                </a:lnTo>
                <a:lnTo>
                  <a:pt x="71" y="239"/>
                </a:lnTo>
                <a:lnTo>
                  <a:pt x="89" y="243"/>
                </a:lnTo>
                <a:lnTo>
                  <a:pt x="106" y="243"/>
                </a:lnTo>
                <a:lnTo>
                  <a:pt x="124" y="243"/>
                </a:lnTo>
                <a:lnTo>
                  <a:pt x="142" y="243"/>
                </a:lnTo>
                <a:lnTo>
                  <a:pt x="160" y="243"/>
                </a:lnTo>
                <a:lnTo>
                  <a:pt x="178" y="243"/>
                </a:lnTo>
                <a:lnTo>
                  <a:pt x="196" y="243"/>
                </a:lnTo>
                <a:lnTo>
                  <a:pt x="213" y="239"/>
                </a:lnTo>
                <a:lnTo>
                  <a:pt x="231" y="239"/>
                </a:lnTo>
                <a:lnTo>
                  <a:pt x="249" y="239"/>
                </a:lnTo>
                <a:lnTo>
                  <a:pt x="267" y="239"/>
                </a:lnTo>
                <a:lnTo>
                  <a:pt x="285" y="239"/>
                </a:lnTo>
                <a:lnTo>
                  <a:pt x="285" y="239"/>
                </a:lnTo>
                <a:lnTo>
                  <a:pt x="302" y="236"/>
                </a:lnTo>
                <a:lnTo>
                  <a:pt x="320" y="236"/>
                </a:lnTo>
                <a:lnTo>
                  <a:pt x="338" y="236"/>
                </a:lnTo>
                <a:lnTo>
                  <a:pt x="356" y="232"/>
                </a:lnTo>
                <a:lnTo>
                  <a:pt x="374" y="232"/>
                </a:lnTo>
                <a:lnTo>
                  <a:pt x="392" y="228"/>
                </a:lnTo>
                <a:lnTo>
                  <a:pt x="409" y="228"/>
                </a:lnTo>
                <a:lnTo>
                  <a:pt x="427" y="225"/>
                </a:lnTo>
                <a:lnTo>
                  <a:pt x="441" y="225"/>
                </a:lnTo>
                <a:lnTo>
                  <a:pt x="458" y="221"/>
                </a:lnTo>
                <a:lnTo>
                  <a:pt x="476" y="221"/>
                </a:lnTo>
                <a:lnTo>
                  <a:pt x="494" y="218"/>
                </a:lnTo>
                <a:lnTo>
                  <a:pt x="507" y="214"/>
                </a:lnTo>
                <a:lnTo>
                  <a:pt x="525" y="210"/>
                </a:lnTo>
                <a:lnTo>
                  <a:pt x="543" y="210"/>
                </a:lnTo>
                <a:lnTo>
                  <a:pt x="561" y="207"/>
                </a:lnTo>
                <a:lnTo>
                  <a:pt x="561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87720" y="3701880"/>
            <a:ext cx="912960" cy="782640"/>
          </a:xfrm>
          <a:custGeom>
            <a:avLst/>
            <a:gdLst/>
            <a:ahLst/>
            <a:rect l="l" t="t" r="r" b="b"/>
            <a:pathLst>
              <a:path w="561" h="416">
                <a:moveTo>
                  <a:pt x="561" y="380"/>
                </a:moveTo>
                <a:lnTo>
                  <a:pt x="543" y="384"/>
                </a:lnTo>
                <a:lnTo>
                  <a:pt x="525" y="384"/>
                </a:lnTo>
                <a:lnTo>
                  <a:pt x="507" y="387"/>
                </a:lnTo>
                <a:lnTo>
                  <a:pt x="494" y="391"/>
                </a:lnTo>
                <a:lnTo>
                  <a:pt x="476" y="391"/>
                </a:lnTo>
                <a:lnTo>
                  <a:pt x="458" y="394"/>
                </a:lnTo>
                <a:lnTo>
                  <a:pt x="441" y="398"/>
                </a:lnTo>
                <a:lnTo>
                  <a:pt x="427" y="398"/>
                </a:lnTo>
                <a:lnTo>
                  <a:pt x="409" y="402"/>
                </a:lnTo>
                <a:lnTo>
                  <a:pt x="392" y="402"/>
                </a:lnTo>
                <a:lnTo>
                  <a:pt x="374" y="405"/>
                </a:lnTo>
                <a:lnTo>
                  <a:pt x="356" y="405"/>
                </a:lnTo>
                <a:lnTo>
                  <a:pt x="338" y="409"/>
                </a:lnTo>
                <a:lnTo>
                  <a:pt x="320" y="409"/>
                </a:lnTo>
                <a:lnTo>
                  <a:pt x="302" y="409"/>
                </a:lnTo>
                <a:lnTo>
                  <a:pt x="285" y="413"/>
                </a:lnTo>
                <a:lnTo>
                  <a:pt x="285" y="413"/>
                </a:lnTo>
                <a:lnTo>
                  <a:pt x="267" y="413"/>
                </a:lnTo>
                <a:lnTo>
                  <a:pt x="249" y="413"/>
                </a:lnTo>
                <a:lnTo>
                  <a:pt x="231" y="413"/>
                </a:lnTo>
                <a:lnTo>
                  <a:pt x="213" y="413"/>
                </a:lnTo>
                <a:lnTo>
                  <a:pt x="196" y="416"/>
                </a:lnTo>
                <a:lnTo>
                  <a:pt x="178" y="416"/>
                </a:lnTo>
                <a:lnTo>
                  <a:pt x="160" y="416"/>
                </a:lnTo>
                <a:lnTo>
                  <a:pt x="142" y="416"/>
                </a:lnTo>
                <a:lnTo>
                  <a:pt x="124" y="416"/>
                </a:lnTo>
                <a:lnTo>
                  <a:pt x="106" y="416"/>
                </a:lnTo>
                <a:lnTo>
                  <a:pt x="89" y="416"/>
                </a:lnTo>
                <a:lnTo>
                  <a:pt x="71" y="413"/>
                </a:lnTo>
                <a:lnTo>
                  <a:pt x="53" y="413"/>
                </a:lnTo>
                <a:lnTo>
                  <a:pt x="35" y="413"/>
                </a:lnTo>
                <a:lnTo>
                  <a:pt x="17" y="413"/>
                </a:lnTo>
                <a:lnTo>
                  <a:pt x="0" y="413"/>
                </a:lnTo>
                <a:lnTo>
                  <a:pt x="142" y="0"/>
                </a:lnTo>
                <a:lnTo>
                  <a:pt x="561" y="38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7400" y="4724280"/>
            <a:ext cx="43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12880" y="4892760"/>
            <a:ext cx="46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10,9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50600" y="4782960"/>
            <a:ext cx="44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xt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35920" y="4952880"/>
            <a:ext cx="3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9,3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83680" y="4586400"/>
            <a:ext cx="105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gropec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71040" y="4815000"/>
            <a:ext cx="3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9,6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10520" y="3244680"/>
            <a:ext cx="80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squ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68560" y="3505320"/>
            <a:ext cx="56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1</a:t>
            </a: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37840" y="220968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inería 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0160" y="2374920"/>
            <a:ext cx="63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tról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2587680"/>
            <a:ext cx="46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58,6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99120" y="5486400"/>
            <a:ext cx="103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0000"/>
                </a:solidFill>
                <a:latin typeface="Times New Roman"/>
              </a:rPr>
              <a:t>Fuente:  </a:t>
            </a:r>
            <a:r>
              <a:rPr b="0" lang="es-PE" sz="800" spc="-1" strike="noStrike">
                <a:solidFill>
                  <a:srgbClr val="ff0000"/>
                </a:solidFill>
                <a:latin typeface="Times New Roman"/>
              </a:rPr>
              <a:t>ADUAN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533520" y="-55440"/>
            <a:ext cx="48006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E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83808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000000"/>
                </a:solidFill>
                <a:latin typeface="Times New Roman"/>
              </a:rPr>
              <a:t>Generador de Divi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000000"/>
                </a:solidFill>
                <a:latin typeface="Times New Roman"/>
              </a:rPr>
              <a:t>2,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5629320"/>
            <a:ext cx="32004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Times New Roman"/>
              </a:rPr>
              <a:t>Total:  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8,863.27 US$ 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Mill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C3604-FAD3-4828-AD67-5094989B812B}" type="slidenum">
              <a:t>3</a:t>
            </a:fld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BD04972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52480" y="1774800"/>
            <a:ext cx="5867640" cy="372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4920" y="6699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95280" y="2133720"/>
            <a:ext cx="66294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estos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xtracción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54,0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60,0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otal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114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0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57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Cluster Pesquero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86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0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83040" y="519588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3333cc"/>
                </a:solidFill>
                <a:latin typeface="Times New Roman"/>
              </a:rPr>
              <a:t>Fuente:  </a:t>
            </a:r>
            <a:r>
              <a:rPr b="0" lang="es-PE" sz="800" spc="-1" strike="noStrike">
                <a:solidFill>
                  <a:srgbClr val="3333cc"/>
                </a:solidFill>
                <a:latin typeface="Times New Roman"/>
              </a:rPr>
              <a:t>Sociedad Nacional de Pesque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533520" y="-55440"/>
            <a:ext cx="480060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E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12716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00"/>
                </a:solidFill>
                <a:latin typeface="Times New Roman"/>
              </a:rPr>
              <a:t>Generación de Empleo</a:t>
            </a:r>
            <a:r>
              <a:rPr b="0" i="1" lang="es-P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PE" sz="2000" spc="-1" strike="noStrike">
                <a:solidFill>
                  <a:srgbClr val="ff0000"/>
                </a:solidFill>
                <a:latin typeface="Times New Roman"/>
              </a:rPr>
              <a:t>Descentral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563868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Más de 1´000,000 de personas se benefician con el  trabajo del sect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66EA6-B37F-41CD-A999-813E1AD15A49}" type="slidenum">
              <a:t>4</a:t>
            </a:fld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122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GRANDES UNIDADE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84320" y="1827360"/>
            <a:ext cx="3505320" cy="21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5800" y="1459080"/>
            <a:ext cx="1228680" cy="529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PES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4760" y="2768760"/>
            <a:ext cx="1833480" cy="533160"/>
          </a:xfrm>
          <a:prstGeom prst="rect">
            <a:avLst/>
          </a:prstGeom>
          <a:solidFill>
            <a:srgbClr val="afa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CONSER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22400" y="2782800"/>
            <a:ext cx="1785960" cy="533520"/>
          </a:xfrm>
          <a:prstGeom prst="rect">
            <a:avLst/>
          </a:prstGeom>
          <a:solidFill>
            <a:srgbClr val="aa9ffd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HAR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448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2436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3424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4480" y="2427120"/>
            <a:ext cx="4019760" cy="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24360" y="2046240"/>
            <a:ext cx="0" cy="40176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3316320"/>
            <a:ext cx="0" cy="53352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4480" y="3316320"/>
            <a:ext cx="0" cy="53352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79480" y="1576440"/>
            <a:ext cx="11160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00"/>
                </a:solidFill>
                <a:latin typeface="Times New Roman"/>
              </a:rPr>
              <a:t>Flot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49400" y="3849840"/>
            <a:ext cx="138888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Volúmen        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n márgenes 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n liquidez   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38400" y="1527120"/>
            <a:ext cx="892080" cy="301680"/>
          </a:xfrm>
          <a:custGeom>
            <a:avLst/>
            <a:gdLst>
              <a:gd name="textAreaLeft" fmla="*/ 111240 w 892080"/>
              <a:gd name="textAreaRight" fmla="*/ 780840 w 892080"/>
              <a:gd name="textAreaTop" fmla="*/ 75240 h 301680"/>
              <a:gd name="textAreaBottom" fmla="*/ 2264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24000" y="5297400"/>
            <a:ext cx="85680" cy="513000"/>
          </a:xfrm>
          <a:custGeom>
            <a:avLst/>
            <a:gdLst>
              <a:gd name="textAreaLeft" fmla="*/ 54720 w 85680"/>
              <a:gd name="textAreaRight" fmla="*/ 86040 w 85680"/>
              <a:gd name="textAreaTop" fmla="*/ 13320 h 513000"/>
              <a:gd name="textAreaBottom" fmla="*/ 499680 h 51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5370480"/>
            <a:ext cx="1774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ff3300"/>
                </a:solidFill>
                <a:latin typeface="Times New Roman"/>
              </a:rPr>
              <a:t>Limitant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0360" y="2773440"/>
            <a:ext cx="1832040" cy="533160"/>
          </a:xfrm>
          <a:prstGeom prst="rect">
            <a:avLst/>
          </a:prstGeom>
          <a:solidFill>
            <a:srgbClr val="afa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CONGEL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34240" y="3301920"/>
            <a:ext cx="0" cy="53496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87680" y="5257800"/>
            <a:ext cx="19843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Modernización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16280" y="5257800"/>
            <a:ext cx="26226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Eficiencia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81960" y="5257800"/>
            <a:ext cx="26143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Capacidad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890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NEG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0700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8808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1D26E-5617-4932-88A3-A9E4207D6431}" type="slidenum">
              <a:t>5</a:t>
            </a:fld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533160" cy="450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33520" y="4124160"/>
            <a:ext cx="533160" cy="447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079640" y="2362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Anchov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7760" y="4043520"/>
            <a:ext cx="20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Jurel/Caballa/S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7400" y="44244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Merlu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8120" y="4805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Po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8120" y="51865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ota" descr=""/>
          <p:cNvPicPr/>
          <p:nvPr/>
        </p:nvPicPr>
        <p:blipFill>
          <a:blip r:embed="rId4"/>
          <a:stretch/>
        </p:blipFill>
        <p:spPr>
          <a:xfrm>
            <a:off x="457200" y="5038560"/>
            <a:ext cx="533520" cy="447840"/>
          </a:xfrm>
          <a:prstGeom prst="rect">
            <a:avLst/>
          </a:prstGeom>
          <a:ln w="0">
            <a:noFill/>
          </a:ln>
        </p:spPr>
      </p:pic>
      <p:pic>
        <p:nvPicPr>
          <p:cNvPr id="162" name="merluza" descr=""/>
          <p:cNvPicPr/>
          <p:nvPr/>
        </p:nvPicPr>
        <p:blipFill>
          <a:blip r:embed="rId5"/>
          <a:stretch/>
        </p:blipFill>
        <p:spPr>
          <a:xfrm>
            <a:off x="533520" y="4581360"/>
            <a:ext cx="533160" cy="446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048120" y="2376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Times New Roman"/>
              </a:rPr>
              <a:t>C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4586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Times New Roman"/>
              </a:rPr>
              <a:t>CH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14800" y="2209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Harina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28120" y="25909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Ace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6960" y="443376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onser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6960" y="405288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ongel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5160" y="481500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Fre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15880" y="519588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urado,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2209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740.6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26384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80.1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4038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142.8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44956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44.9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38680" y="48448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9.1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38680" y="52261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10.4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26812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820.7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52722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207.2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67480" y="2057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79.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0120" y="4724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20.2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5638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592776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Times New Roman"/>
              </a:rPr>
              <a:t>1,027.9 mill. US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1371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8120" y="13716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62520" y="13716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Unidades de        Neg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13716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por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752480" y="4876560"/>
            <a:ext cx="1447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752480" y="480024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81080" y="4648320"/>
            <a:ext cx="1219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4343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411480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62520" y="2286000"/>
            <a:ext cx="75960" cy="685800"/>
          </a:xfrm>
          <a:custGeom>
            <a:avLst/>
            <a:gdLst>
              <a:gd name="textAreaLeft" fmla="*/ 48600 w 75960"/>
              <a:gd name="textAreaRight" fmla="*/ 7632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2590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9568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Total Secto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480" y="35100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SECTOR  2,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7040" y="-30240"/>
            <a:ext cx="32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COMPORTAMIENTO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8DE8A-FA58-4D3D-BC11-1A89F83A7CDF}" type="slidenum">
              <a:t>6</a:t>
            </a:fld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DESEMBA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(canti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382320" y="4006800"/>
            <a:ext cx="5027040" cy="2317320"/>
            <a:chOff x="382320" y="4006800"/>
            <a:chExt cx="5027040" cy="2317320"/>
          </a:xfrm>
        </p:grpSpPr>
        <p:sp>
          <p:nvSpPr>
            <p:cNvPr id="200" name=""/>
            <p:cNvSpPr/>
            <p:nvPr/>
          </p:nvSpPr>
          <p:spPr>
            <a:xfrm>
              <a:off x="1231560" y="5568480"/>
              <a:ext cx="131040" cy="3607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9720" y="5709600"/>
              <a:ext cx="122040" cy="2199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39240" y="5771160"/>
              <a:ext cx="132480" cy="1584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47400" y="5700960"/>
              <a:ext cx="121320" cy="2286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46560" y="5586120"/>
              <a:ext cx="132480" cy="3434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56520" y="5332680"/>
              <a:ext cx="119520" cy="596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53520" y="5235840"/>
              <a:ext cx="132840" cy="6937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64200" y="4717800"/>
              <a:ext cx="132480" cy="12114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71640" y="4815000"/>
              <a:ext cx="122040" cy="11145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71160" y="4989240"/>
              <a:ext cx="132480" cy="9403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81480" y="5394600"/>
              <a:ext cx="122040" cy="5349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78480" y="4612320"/>
              <a:ext cx="132840" cy="1316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88440" y="5657040"/>
              <a:ext cx="122040" cy="27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85440" y="5535000"/>
              <a:ext cx="132840" cy="3945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43000" y="4515480"/>
              <a:ext cx="1800" cy="1414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99080" y="592956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99080" y="578880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99080" y="564804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99080" y="550872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99080" y="536760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99080" y="522720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99080" y="507744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99080" y="493848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99080" y="479736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99080" y="465660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99080" y="451548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43000" y="5929560"/>
              <a:ext cx="4263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14300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4511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75032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206100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235728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6679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9649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27528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5852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8822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19292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48992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480024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0990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40720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98520" y="5665680"/>
              <a:ext cx="2970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95520" y="5665680"/>
              <a:ext cx="30996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05480" y="5665680"/>
              <a:ext cx="3078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13640" y="5665680"/>
              <a:ext cx="2988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23480" y="5147640"/>
              <a:ext cx="296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19760" y="5147640"/>
              <a:ext cx="310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3044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27440" y="5147640"/>
              <a:ext cx="30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37760" y="5147640"/>
              <a:ext cx="30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772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44720" y="5147640"/>
              <a:ext cx="310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5540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28640" y="4006800"/>
              <a:ext cx="3255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esembarque Nacional de Jurel y Caball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(T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88040" y="58593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3560" y="571824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3560" y="557748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3560" y="543852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3560" y="529740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3560" y="515628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3560" y="500652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3560" y="48675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3560" y="472680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3560" y="458604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2320" y="444528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6200000">
              <a:off x="11509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6200000">
              <a:off x="14479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200000">
              <a:off x="17578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6200000">
              <a:off x="20660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6200000">
              <a:off x="23695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6200000">
              <a:off x="26776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6200000">
              <a:off x="29728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6200000">
              <a:off x="32828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6200000">
              <a:off x="35845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6200000">
              <a:off x="3894480" y="60760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6200000">
              <a:off x="42026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6200000">
              <a:off x="44996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4805640" y="60760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5068800" y="6109560"/>
              <a:ext cx="30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ct-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457200" y="5715000"/>
            <a:ext cx="822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4476600"/>
            <a:ext cx="3070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A partir de setiembre del 2002, por R.M. 007-2002-PRODUCE estableció que la pesca de Jurel y Caballa se destinaría exclusivamente al  CH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34280" y="990720"/>
            <a:ext cx="127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1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Miles de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351936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66"/>
                </a:solidFill>
                <a:latin typeface="Times New Roman"/>
              </a:rPr>
              <a:t>Fuente: Ministerio de la Produc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78080" y="1495440"/>
            <a:ext cx="3421080" cy="223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97360" y="1495440"/>
            <a:ext cx="1589040" cy="223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84960" y="1495440"/>
            <a:ext cx="1560600" cy="223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70320" y="171936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57920" y="171936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418520" y="171936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270320" y="191628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57920" y="191628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18520" y="191628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70320" y="2112840"/>
            <a:ext cx="5288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57920" y="2112840"/>
            <a:ext cx="528480" cy="19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18520" y="2112840"/>
            <a:ext cx="5270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70320" y="230976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57920" y="230976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418520" y="230976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70320" y="250668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57920" y="250668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418520" y="250668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70320" y="270360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57920" y="270360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8520" y="270360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70320" y="290052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57920" y="290052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418520" y="290052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70320" y="3097080"/>
            <a:ext cx="5288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57920" y="3097080"/>
            <a:ext cx="528480" cy="19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18520" y="3097080"/>
            <a:ext cx="5270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70320" y="3294000"/>
            <a:ext cx="528840" cy="206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57920" y="3294000"/>
            <a:ext cx="528480" cy="20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8520" y="3294000"/>
            <a:ext cx="527040" cy="206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43240" y="1514520"/>
            <a:ext cx="129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SEMBARQ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42160" y="172260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300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,12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60240" y="172260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232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024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176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,91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19400" y="172260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0576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900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9764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,30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506640" y="172260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94908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506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17880" y="191916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300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,41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60240" y="19191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232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910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2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176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,16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19400" y="191916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0576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786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764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,5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06640" y="19191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94908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6392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1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43600" y="2120760"/>
            <a:ext cx="77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chove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268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,98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7000" y="21207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016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84880" y="21207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144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,15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16160" y="212076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0360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983920" y="212076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732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,5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503400" y="21207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4656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33080" y="21207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6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45040" y="2317680"/>
            <a:ext cx="111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ras Espec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58920" y="231768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3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57720" y="23176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3372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73440" y="2317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35800" y="2317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16880" y="231768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2572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62480" y="2317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973200" y="231768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,0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03400" y="231768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4656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33080" y="231768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79440" y="2509920"/>
            <a:ext cx="357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H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16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60960" y="25099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35880" y="25099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79560" y="250992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0340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78600" y="25099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16256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727760" y="250992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444320" y="271152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es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589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3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57720" y="27115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3372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848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465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5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16520" y="271152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3680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724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1053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9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04120" y="27115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8012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330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43960" y="2908440"/>
            <a:ext cx="78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serv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589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57720" y="290844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3372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4848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465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16520" y="290844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3680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724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053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504120" y="290844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08012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330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44680" y="3105000"/>
            <a:ext cx="79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gel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589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357720" y="310500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3372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848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465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916520" y="310500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53680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724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1053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504120" y="310500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8012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330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44320" y="3298680"/>
            <a:ext cx="540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r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0482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358080" y="3298680"/>
            <a:ext cx="686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2264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344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6358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16880" y="329868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2572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16248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1946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504480" y="3298680"/>
            <a:ext cx="686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6904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72128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29640" y="1501920"/>
            <a:ext cx="141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m: 2000-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45000" y="15019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570720" y="1501920"/>
            <a:ext cx="122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m: 10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389240" y="1909800"/>
            <a:ext cx="18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389240" y="1909800"/>
            <a:ext cx="18367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49720" y="1909800"/>
            <a:ext cx="1535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49720" y="1909800"/>
            <a:ext cx="15350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08520" y="1909800"/>
            <a:ext cx="1563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8520" y="1909800"/>
            <a:ext cx="1563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365120" y="1482840"/>
            <a:ext cx="24120" cy="20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259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7847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3723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932600" y="1506600"/>
            <a:ext cx="2412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389240" y="1482840"/>
            <a:ext cx="65674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89240" y="1706400"/>
            <a:ext cx="656748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396120" y="1909800"/>
            <a:ext cx="153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396120" y="1909800"/>
            <a:ext cx="153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389240" y="3487680"/>
            <a:ext cx="65674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91320" y="1905120"/>
            <a:ext cx="76176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21619-9D37-453E-A1EC-4EA69D7B8AB3}" type="slidenum">
              <a:t>7</a:t>
            </a:fld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1066680" y="5029200"/>
            <a:ext cx="647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  <a:ea typeface="Arial"/>
              </a:rPr>
              <a:t>Fuente: ADUAN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-31680"/>
            <a:ext cx="3733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U. NEGO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93024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5840" y="928800"/>
            <a:ext cx="80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Mayor valor unitario de exportación de diferentes productos Pesquero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9200" y="3189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EXPORTACIONES PESQUE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286000" y="152388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xportaciones entre Volumen:</a:t>
            </a: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US$ FOB / TM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90720" y="47242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*Varios: Curado, Fresco, Peces vivos, Divers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30160" y="2278080"/>
            <a:ext cx="973080" cy="333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801800" y="2278080"/>
            <a:ext cx="3497400" cy="333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297400" y="2278080"/>
            <a:ext cx="3016440" cy="333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30160" y="2610000"/>
            <a:ext cx="973080" cy="196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09440" y="2287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65200" y="2287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574520" y="2287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71320" y="2287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533560" y="2287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42880" y="2287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75000" y="2333520"/>
            <a:ext cx="113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46600" y="2625840"/>
            <a:ext cx="1645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rom. Po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57760" y="262584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8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40000" y="262584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761360" y="262584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121440" y="261612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502240" y="261612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125040" y="261612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278120" y="2616120"/>
            <a:ext cx="560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67560" y="297180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843560" y="2963880"/>
            <a:ext cx="947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arios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609440" y="2971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3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30280" y="2971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39600" y="2971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71320" y="2971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6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501880" y="2971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11200" y="2971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9800" y="2971800"/>
            <a:ext cx="438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267560" y="329580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940040" y="3287880"/>
            <a:ext cx="1443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er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09440" y="3295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3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30280" y="3295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539600" y="3295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71320" y="328788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4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501880" y="328788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11200" y="32878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237800" y="328788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67560" y="361944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030040" y="3619440"/>
            <a:ext cx="1527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gel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9440" y="3619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5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130280" y="3619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539600" y="3619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971320" y="361152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1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01880" y="361152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911200" y="36115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70560" y="3611520"/>
            <a:ext cx="59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267560" y="394164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010960" y="394164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816080" y="394164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38560" y="3941640"/>
            <a:ext cx="7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820760" y="39416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179760" y="393552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507640" y="3935520"/>
            <a:ext cx="63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22520" y="39355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237800" y="393552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267560" y="427032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27440" y="4254480"/>
            <a:ext cx="835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16080" y="427032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38560" y="4270320"/>
            <a:ext cx="7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820760" y="42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79760" y="425448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507640" y="4254480"/>
            <a:ext cx="63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122520" y="42544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45000" y="4254480"/>
            <a:ext cx="651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17560" y="2265480"/>
            <a:ext cx="25560" cy="232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7892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9132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2848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64848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300880" y="2290680"/>
            <a:ext cx="2412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43120" y="2265480"/>
            <a:ext cx="748188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43120" y="2598840"/>
            <a:ext cx="74818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43120" y="4567320"/>
            <a:ext cx="74818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00CD3-2BC5-4085-BFAB-0DA6F138C5B8}" type="slidenum">
              <a:t>8</a:t>
            </a:fld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LA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609480" y="7621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La mayor ventaja competitiva de la Industria de Harina/Aceite de Pescado Peruana a nivel mundial es su disponibilidad al recurso Anchoveta garantizado por la pesca responsab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19720" y="2666880"/>
            <a:ext cx="396216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oducción mundial estable (6,467 TM promedio anual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incipal productor a nivel mundial = 30,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incipal exportador a nivel mundial = 43,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ESCA RESPONSABLE producto de vedas reproductivas y cuotas por biomasa, aseguran el sostenimiento de la espec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581280" y="6248520"/>
            <a:ext cx="347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800" spc="-1" strike="noStrike">
                <a:solidFill>
                  <a:srgbClr val="000066"/>
                </a:solidFill>
                <a:latin typeface="Arial"/>
              </a:rPr>
              <a:t>Fuente: International Fishmeal and Oil Fish Organisartion (IFFO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457200" y="4267080"/>
            <a:ext cx="3718080" cy="1699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914400" y="1981080"/>
            <a:ext cx="2590920" cy="198144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914400" y="4495680"/>
            <a:ext cx="2590920" cy="198936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615960" y="1758960"/>
            <a:ext cx="346860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43480" y="1762200"/>
            <a:ext cx="309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CION MUNDIAL DE HARINA DE PES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459F3-D38B-4F59-9959-EADAB3E462B7}" type="slidenum">
              <a:t>9</a:t>
            </a:fld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7:27:29Z</dcterms:created>
  <dc:creator>AREA DE SISTEMAS</dc:creator>
  <dc:description/>
  <dc:language>en-US</dc:language>
  <cp:lastModifiedBy>miguell</cp:lastModifiedBy>
  <dcterms:modified xsi:type="dcterms:W3CDTF">2004-03-30T18:00:04Z</dcterms:modified>
  <cp:revision>295</cp:revision>
  <dc:subject/>
  <dc:title>Presentación de PowerPoint</dc:title>
</cp:coreProperties>
</file>